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0D35-D31B-4221-A6FA-4FC4B86CBB2E}" type="datetime">
              <a:rPr b="1" lang="en-US" sz="1200" spc="-1" strike="noStrike">
                <a:solidFill>
                  <a:srgbClr val="000000"/>
                </a:solidFill>
                <a:latin typeface="VNI-Times"/>
              </a:rPr>
              <a:t>07/28/26</a:t>
            </a:fld>
            <a:endParaRPr b="1" lang="en-US" sz="1200" spc="-1" strike="noStrike">
              <a:solidFill>
                <a:srgbClr val="ffffff"/>
              </a:solidFill>
              <a:latin typeface="VNI-Time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C9A3-CCBE-4512-94C3-88FCC5464F29}"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C025-6D68-4337-A5AF-6DD4F1BC2C7C}"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D8C8E-CCD0-4CBD-91F1-105067D20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2233-66B7-46C5-933F-46E6A55A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B2341-B9E2-4113-B40A-F314FDE4F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7CF25-3074-44F7-BC71-8D15793F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CC40-678C-40C0-BFAC-7B77AB00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6B534-DB6A-43EE-AD8F-5B696D5A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1674-53A5-45C7-9796-33960CC0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2D194-A9BC-4064-9571-57E50688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018B-15B6-4DFB-BDEE-7E2DB0925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01D38-859F-4194-9435-D66FAA611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DDCAB-841B-47D6-8FEB-DD76B0D5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78C5-37EA-49B1-B50C-734BFE0CC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889D-BABE-40F9-9B35-8C1573547452}" type="datetime">
              <a:rPr b="0" lang="en-US" sz="1400" spc="-1" strike="noStrike">
                <a:solidFill>
                  <a:srgbClr val="000000"/>
                </a:solidFill>
                <a:latin typeface="Times New Roman"/>
              </a:rPr>
              <a:t>07/28/26</a:t>
            </a:fld>
            <a:endParaRPr b="1" lang="en-US" sz="1400" spc="-1" strike="noStrike">
              <a:solidFill>
                <a:srgbClr val="ffffff"/>
              </a:solidFill>
              <a:latin typeface="VNI-Time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H     CHINH     CONG     -    Truong Quang Vinh</a:t>
            </a:r>
            <a:endParaRPr b="1" lang="en-US" sz="1400" spc="-1" strike="noStrike">
              <a:solidFill>
                <a:srgbClr val="ffffff"/>
              </a:solidFill>
              <a:latin typeface="VNI-Time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54743-18C1-44F3-BC0B-7415E36BEAF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D35D-3DEF-4814-9ED4-65C60EFF768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49" name="PlaceHolder 1"/>
          <p:cNvSpPr>
            <a:spLocks noGrp="1"/>
          </p:cNvSpPr>
          <p:nvPr>
            <p:ph type="title"/>
          </p:nvPr>
        </p:nvSpPr>
        <p:spPr>
          <a:xfrm>
            <a:off x="-360" y="304560"/>
            <a:ext cx="8991720" cy="43434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VNI-Times"/>
              </a:rPr>
              <a:t>NGHỊ QUYẾT 10-NQ/TW</a:t>
            </a:r>
            <a:r>
              <a:rPr b="1" lang="en-US" sz="5400" spc="-1" strike="noStrike">
                <a:solidFill>
                  <a:srgbClr val="ff3300"/>
                </a:solidFill>
                <a:latin typeface="VNI-Times"/>
              </a:rPr>
              <a:t> </a:t>
            </a:r>
            <a:br>
              <a:rPr sz="5400"/>
            </a:br>
            <a:r>
              <a:rPr b="1" lang="en-US" sz="3200" spc="-1" strike="noStrike">
                <a:solidFill>
                  <a:srgbClr val="000000"/>
                </a:solidFill>
                <a:latin typeface="Times New Roman"/>
              </a:rPr>
              <a:t>Về phát triển kinh tế tư nhân trở thành một </a:t>
            </a:r>
            <a:br>
              <a:rPr sz="3200"/>
            </a:br>
            <a:r>
              <a:rPr b="1" lang="en-US" sz="3200" spc="-1" strike="noStrike">
                <a:solidFill>
                  <a:srgbClr val="000000"/>
                </a:solidFill>
                <a:latin typeface="Times New Roman"/>
              </a:rPr>
              <a:t>động lực quan trọng của nền kinh tế thị trường </a:t>
            </a:r>
            <a:br>
              <a:rPr sz="3200"/>
            </a:br>
            <a:r>
              <a:rPr b="1" lang="en-US" sz="3200" spc="-1" strike="noStrike">
                <a:solidFill>
                  <a:srgbClr val="000000"/>
                </a:solidFill>
                <a:latin typeface="Times New Roman"/>
              </a:rPr>
              <a:t>định hướng xã hội chủ nghĩ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533160" y="4800600"/>
            <a:ext cx="812772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spd="slow">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533520" y="533160"/>
            <a:ext cx="8153280" cy="5562360"/>
          </a:xfrm>
          <a:prstGeom prst="rect">
            <a:avLst/>
          </a:prstGeom>
          <a:noFill/>
          <a:ln w="0">
            <a:noFill/>
          </a:ln>
        </p:spPr>
        <p:txBody>
          <a:bodyPr anchor="t">
            <a:normAutofit/>
          </a:bodyPr>
          <a:p>
            <a:pPr marL="343080" indent="-34308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4: </a:t>
            </a:r>
            <a:r>
              <a:rPr b="1" lang="en-US" sz="2800" spc="-1" strike="noStrike">
                <a:solidFill>
                  <a:srgbClr val="000000"/>
                </a:solidFill>
                <a:latin typeface="Times New Roman"/>
              </a:rPr>
              <a:t>Quan tâm xây dựng các tổ chức cơ sở đảng và phát triển đảng trong khu vực KTT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ầu hết các địa phương thành lập Đảng ủy Khối doanh nghiệp quản lý doanh nghiệp.</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í điểm kết nạp Đảng Chủ doanh nghiệp tư nhân. Đến tháng 6/2015 </a:t>
            </a:r>
            <a:r>
              <a:rPr b="0" lang="en-US" sz="2800" spc="-1" strike="noStrike">
                <a:solidFill>
                  <a:srgbClr val="0000cc"/>
                </a:solidFill>
                <a:latin typeface="Times New Roman"/>
              </a:rPr>
              <a:t>có trên 10.180 cơ sở Đảng ngòai khu vực nhà nước, với trên 134.000 đảng viên, trong đó 2.300 đảng viên là chủ doanh nghiệp tư nhâ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 phép đảng viên làm kinh tế. Đến tháng 6/2015 có trên 125.000 đảng viên làm kinh tế, chủ yếu là lọai hình kinh tế hộ, doanh nghiệp tư nhân.</a:t>
            </a:r>
            <a:endParaRPr b="0" lang="en-US" sz="2800" spc="-1" strike="noStrike">
              <a:solidFill>
                <a:srgbClr val="000000"/>
              </a:solidFill>
              <a:latin typeface="Times New Roman"/>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5: </a:t>
            </a:r>
            <a:r>
              <a:rPr b="1" lang="en-US" sz="2800" spc="-1" strike="noStrike">
                <a:solidFill>
                  <a:srgbClr val="000000"/>
                </a:solidFill>
                <a:latin typeface="Times New Roman"/>
              </a:rPr>
              <a:t>Đổi mới hoạt động giám sát, phản biện chính sách của các tổ chức chính trị - xã hội, tổ chức xã hội, nghề nghiệp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BMTTQ, Công đòan, Hội Phụ nữ, Đòan TNCS, được tạo điều kiện họat động, giám sát, hỗ trợ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CCI trở thành chỗ dựa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ác Hiệp hội doanh nghiệp trở thành cầu nối giữa cộng đồng doanh nghiệp với nhà nướ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EA8A-8917-4216-B341-B8933120816A}"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67"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Hạn chế, yếu kém</a:t>
            </a:r>
            <a:endParaRPr b="0" lang="en-US" sz="3200" spc="-1" strike="noStrike">
              <a:solidFill>
                <a:srgbClr val="000000"/>
              </a:solidFill>
              <a:latin typeface="Times New Roman"/>
            </a:endParaRPr>
          </a:p>
        </p:txBody>
      </p:sp>
      <p:sp>
        <p:nvSpPr>
          <p:cNvPr id="68"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1: </a:t>
            </a:r>
            <a:r>
              <a:rPr b="1" lang="en-US" sz="2800" spc="-1" strike="noStrike">
                <a:solidFill>
                  <a:srgbClr val="000000"/>
                </a:solidFill>
                <a:latin typeface="Times New Roman"/>
              </a:rPr>
              <a:t>Hệ thống pháp luật, các cơ chế, chính sách khuyến khích kinh tế tư nhân phát triển còn </a:t>
            </a:r>
            <a:r>
              <a:rPr b="1" lang="en-US" sz="2800" spc="-1" strike="noStrike">
                <a:solidFill>
                  <a:srgbClr val="0066ff"/>
                </a:solidFill>
                <a:latin typeface="Times New Roman"/>
              </a:rPr>
              <a:t>nhiều bất cập, thiếu đồng bộ.</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cận hạn chế vốn vay.</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chứng khóan chậm phát triể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bất động sản nhiều rủi r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công chậm mở cử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ạnh tranh không lành mạnh còn phổ biế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ôi trường đầu tư kinh doanh còn nhiều hạn chế.</a:t>
            </a:r>
            <a:endParaRPr b="0" lang="en-US" sz="2800" spc="-1" strike="noStrike">
              <a:solidFill>
                <a:srgbClr val="000000"/>
              </a:solidFill>
              <a:latin typeface="Times New Roman"/>
            </a:endParaRPr>
          </a:p>
        </p:txBody>
      </p:sp>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33160"/>
            <a:ext cx="8229600" cy="5562360"/>
          </a:xfrm>
          <a:prstGeom prst="rect">
            <a:avLst/>
          </a:prstGeom>
          <a:noFill/>
          <a:ln w="0">
            <a:noFill/>
          </a:ln>
        </p:spPr>
        <p:txBody>
          <a:bodyPr anchor="t">
            <a:normAutofit/>
          </a:bodyPr>
          <a:p>
            <a:pPr marL="343080" indent="-34308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ứ 2: </a:t>
            </a:r>
            <a:r>
              <a:rPr b="1" lang="en-US" sz="2400" spc="-1" strike="noStrike">
                <a:solidFill>
                  <a:srgbClr val="000000"/>
                </a:solidFill>
                <a:latin typeface="Times New Roman"/>
              </a:rPr>
              <a:t>Kinh tế tư nhân chưa đáp ứng được vai trò là một động lực quan trọng của nền kinh tế:</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c độ tăng trưởng GDP có xu hướng giảm về tỷ trọng (Giai đọan 2003-2010 tăng 11,93%; giai đọan 2011-2015 tăng 7,54%).</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h tế hộ và cá thể chiếm 95%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 mô nhỏ và siêu nhỏ trên 90% (vốn dưới 1 tỷ đồng).</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ần lớn công nghệ lạc hậu (chỉ 7% lao động kỹ thuật).</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ản trị doanh nghiệp yếu (Quản lý tài chính, kế tóan chưa nghiêm).</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ơ cấu ngành chưa hợp lý (81% là thương mại, dịch vụ).</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anh nghiệp chủ yếu tập trung vùng đồng bằng Sông Hồng và vùng Đông nam bộ.</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ỷ lệ DN ngừng họat động, phá sản cao (năm 2016 có 73.130 doanh nghiệp chấm dứt họat động, 20.345 doanh nghiệp tạm ngừng, trong khi thành lập mới chỉ 110.000 doanh nghiệp).</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685440" y="762120"/>
            <a:ext cx="8001000" cy="53337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3: </a:t>
            </a:r>
            <a:r>
              <a:rPr b="1" lang="en-US" sz="2800" spc="-1" strike="noStrike">
                <a:solidFill>
                  <a:srgbClr val="0066ff"/>
                </a:solidFill>
                <a:latin typeface="Times New Roman"/>
              </a:rPr>
              <a:t>Ý thức chấp hành pháp luật chưa nghiê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ạnh tranh không lành mạnh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ây ô nhiễm môi trườ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ông bảo đảm vệ sinh, an toàn thực phẩm.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n lận thương mạ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ợ bảo hiểm xã hộ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áo cáo tài chính không trung thự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uất hiện quan hệ không lành mạnh giữa doanh nghiệp và cơ quan nhà nước hình thành “lợi ích nhó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4: </a:t>
            </a:r>
            <a:r>
              <a:rPr b="1" lang="en-US" sz="2800" spc="-1" strike="noStrike">
                <a:solidFill>
                  <a:srgbClr val="0066ff"/>
                </a:solidFill>
                <a:latin typeface="Times New Roman"/>
              </a:rPr>
              <a:t>Môi trường đầu tư kinh doanh, khởi nghiệp còn nhiều hạn chế</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lực, hiệu quả quản lý nhà nước còn biểu hiện </a:t>
            </a:r>
            <a:r>
              <a:rPr b="0" lang="en-US" sz="2800" spc="-1" strike="noStrike">
                <a:solidFill>
                  <a:srgbClr val="0066ff"/>
                </a:solidFill>
                <a:latin typeface="Times New Roman"/>
              </a:rPr>
              <a:t>cơ chế xin cho. Thủ tục hành chính còn rườm rà, phức tạ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trung gian, không chính thức còn nhiều. Hiệu quả công tác thanh tra, kiểm tra hoạt động của kinh tế tư nhân còn thấp.</a:t>
            </a:r>
            <a:endParaRPr b="0" lang="en-US" sz="2800" spc="-1" strike="noStrike">
              <a:solidFill>
                <a:srgbClr val="000000"/>
              </a:solidFill>
              <a:latin typeface="Times New Roman"/>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D3DC-869B-41D7-9592-29FCAB10926B}"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73"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Nguyên nhân</a:t>
            </a:r>
            <a:endParaRPr b="0" lang="en-US" sz="3200" spc="-1" strike="noStrike">
              <a:solidFill>
                <a:srgbClr val="000000"/>
              </a:solidFill>
              <a:latin typeface="Times New Roman"/>
            </a:endParaRPr>
          </a:p>
        </p:txBody>
      </p:sp>
      <p:sp>
        <p:nvSpPr>
          <p:cNvPr id="74"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ẫn còn một số vấn đề về phát triển kinh tế tư nhân cần tiếp tục được cụ thể hoá, làm rõ hơn cả về lý luận và thực tiễn. Thể chế về phát triển doanh nghiệp, doanh nhân còn nhiều bất cập.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ông tác phổ biến, quán triệt và tuyên truyền chủ trương của Đảng, chính sách, pháp luật của Nhà nước về phát triển kinh tế tư nhân chưa thường xuyên, đầy đủ, sâu rộng.</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lực, hiệu quả quản lý của Nhà nước còn hạn chế. Việc thực hiện chủ trương của Đảng, chính sách, pháp luật của Nhà nước về phát triển kinh tế tư nhân hiệu quả chưa cao, chưa nghiêm. </a:t>
            </a:r>
            <a:endParaRPr b="0" lang="en-US" sz="2800" spc="-1" strike="noStrike">
              <a:solidFill>
                <a:srgbClr val="000000"/>
              </a:solidFill>
              <a:latin typeface="Times New Roman"/>
            </a:endParaRPr>
          </a:p>
        </p:txBody>
      </p:sp>
    </p:spTree>
  </p:cSld>
  <p:transition spd="slow">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ết cấu hạ tầng kinh tế - xã hội chưa đáp ứng yêu cầu phát triển kinh tế tư nhân, nhất là hạ tầng giao thông và nguồn nhân lự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i trò lãnh đạo của các tổ chức đảng, các tổ chức chính trị xã hội, tổ chức nghề nghiệp đối với sự phát triển của khu vực kinh tế tư nhân còn bất cậ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uất phát điểm phát triển và năng lực nội tại của kinh tế tư nhân còn thấp. Đội ngũ doanh nhân mới hình thành đang trong quá trình phát triển, hạn chế về năng lực quản trị kinh doanh và văn hoá doanh nghiệp, đạo đức doanh nhân.</a:t>
            </a:r>
            <a:endParaRPr b="0" lang="en-US" sz="2800" spc="-1" strike="noStrike">
              <a:solidFill>
                <a:srgbClr val="000000"/>
              </a:solidFill>
              <a:latin typeface="Times New Roman"/>
            </a:endParaRPr>
          </a:p>
        </p:txBody>
      </p:sp>
    </p:spTree>
  </p:cSld>
  <p:transition spd="slow">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07F6-40A7-48CB-9134-FA1518D4C46D}"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77" name="PlaceHolder 1"/>
          <p:cNvSpPr>
            <a:spLocks noGrp="1"/>
          </p:cNvSpPr>
          <p:nvPr>
            <p:ph type="title"/>
          </p:nvPr>
        </p:nvSpPr>
        <p:spPr>
          <a:xfrm>
            <a:off x="0" y="5335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ĐỐI VỚI TỈNH ĐỒNG NAI</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ách nay 15 năm, căn cứ </a:t>
            </a:r>
            <a:r>
              <a:rPr b="0" lang="vi-VN" sz="2400" spc="-1" strike="noStrike">
                <a:solidFill>
                  <a:srgbClr val="000000"/>
                </a:solidFill>
                <a:latin typeface="Times New Roman"/>
              </a:rPr>
              <a:t>Nghị quyết số 14/NQ/TW ngày 13/3/2002 của </a:t>
            </a:r>
            <a:r>
              <a:rPr b="0" lang="en-US" sz="2400" spc="-1" strike="noStrike">
                <a:solidFill>
                  <a:srgbClr val="000000"/>
                </a:solidFill>
                <a:latin typeface="Times New Roman"/>
              </a:rPr>
              <a:t>BCHTW</a:t>
            </a:r>
            <a:r>
              <a:rPr b="0" lang="vi-VN" sz="2400" spc="-1" strike="noStrike">
                <a:solidFill>
                  <a:srgbClr val="000000"/>
                </a:solidFill>
                <a:latin typeface="Times New Roman"/>
              </a:rPr>
              <a:t> Đảng (khoá IX),, Tỉnh ủy Đồng Nai đã ban hành Thông tri số 07, Chương trình hành động số 25-Ctr/TU và Kế hoạch số 30 nhằm quán triệt </a:t>
            </a:r>
            <a:r>
              <a:rPr b="0" lang="en-US" sz="2400" spc="-1" strike="noStrike">
                <a:solidFill>
                  <a:srgbClr val="000000"/>
                </a:solidFill>
                <a:latin typeface="Times New Roman"/>
              </a:rPr>
              <a:t>và tạo </a:t>
            </a:r>
            <a:r>
              <a:rPr b="0" lang="vi-VN" sz="2400" spc="-1" strike="noStrike">
                <a:solidFill>
                  <a:srgbClr val="000000"/>
                </a:solidFill>
                <a:latin typeface="Times New Roman"/>
              </a:rPr>
              <a:t>điều kiện phát triển kinh tế tư nhân. </a:t>
            </a:r>
            <a:endParaRPr b="0" lang="en-US" sz="2400" spc="-1" strike="noStrike">
              <a:solidFill>
                <a:srgbClr val="000000"/>
              </a:solidFill>
              <a:latin typeface="Times New Roman"/>
            </a:endParaRPr>
          </a:p>
          <a:p>
            <a:pPr marL="332640" indent="-332640" algn="just">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66ff"/>
                </a:solidFill>
                <a:latin typeface="Times New Roman"/>
              </a:rPr>
              <a:t>Số lượng doanh nghiệp ngày càng tăng</a:t>
            </a:r>
            <a:r>
              <a:rPr b="0" lang="nl-NL" sz="2400" spc="-1" strike="noStrike">
                <a:solidFill>
                  <a:srgbClr val="000000"/>
                </a:solidFill>
                <a:latin typeface="Times New Roman"/>
              </a:rPr>
              <a:t>, đặc biệt từ sau khi Luật Doanh nghiệp có hiệu lực. Cụ thể: </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iai đoạn 2002 - 2006 có 3.315 doanh nghiệp thành lập (bình quân có 663 doanh nghiệp thành lập/năm).</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iai đoạn 2007- 2011 có 9.375 doanh nghiệp thành lập (bình quân có 1.875 doanh nghiệp thành lập/năm).</a:t>
            </a:r>
            <a:endParaRPr b="0" lang="en-US" sz="2400" spc="-1" strike="noStrike">
              <a:solidFill>
                <a:srgbClr val="000000"/>
              </a:solidFill>
              <a:latin typeface="Times New Roman"/>
            </a:endParaRPr>
          </a:p>
          <a:p>
            <a:pPr marL="332640" indent="-3326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iai đoạn 2011-2015 có 11.240 doanh nghiệp thành lập (bình quân có 2.240 doanh nghiệp thành lập/năm). </a:t>
            </a:r>
            <a:endParaRPr b="0" lang="en-US" sz="2400" spc="-1" strike="noStrike">
              <a:solidFill>
                <a:srgbClr val="000000"/>
              </a:solidFill>
              <a:latin typeface="Times New Roman"/>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ính đến tháng 6/2017, có hơn </a:t>
            </a:r>
            <a:r>
              <a:rPr b="0" lang="nl-NL" sz="2800" spc="-1" strike="noStrike">
                <a:solidFill>
                  <a:srgbClr val="0066ff"/>
                </a:solidFill>
                <a:latin typeface="Times New Roman"/>
              </a:rPr>
              <a:t>28.130 doanh nghiệp thành lập mới</a:t>
            </a:r>
            <a:r>
              <a:rPr b="0" lang="nl-NL" sz="2800" spc="-1" strike="noStrike">
                <a:solidFill>
                  <a:srgbClr val="000000"/>
                </a:solidFill>
                <a:latin typeface="Times New Roman"/>
              </a:rPr>
              <a:t>, với tổng vốn đăng ký hơn 177.000 tỷ đồng, trung bình mỗi năm có gần 2.000 doanh nghiệp đăng ký thành lập.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Điều đó chứng tỏ các nhà đầu tư đã tin tưởng vào đường lối, cơ chế chính sách và pháp luật mới của Đảng và nhà nước để tham gia đầu tư dài hạ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F5B1-12A0-4966-B40B-DE6633B3DBE5}"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2"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ÌNH HÌNH VÀ NGUYÊN NHÂN</a:t>
            </a:r>
            <a:endParaRPr b="0" lang="en-US" sz="3200" spc="-1" strike="noStrike">
              <a:solidFill>
                <a:srgbClr val="000000"/>
              </a:solidFill>
              <a:latin typeface="Times New Roman"/>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533520" y="914040"/>
            <a:ext cx="8229600" cy="5181480"/>
          </a:xfrm>
          <a:prstGeom prst="rect">
            <a:avLst/>
          </a:prstGeom>
          <a:noFill/>
          <a:ln w="0">
            <a:noFill/>
          </a:ln>
        </p:spPr>
        <p:txBody>
          <a:bodyPr anchor="t">
            <a:normAutofit/>
          </a:bodyPr>
          <a:p>
            <a:pPr marL="343080" indent="-343080" algn="just">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Times New Roman"/>
              </a:rPr>
              <a:t>Về lọai hình doanh nghiệp và vốn đăng ký:</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CP : 1.487 DN; 62.814 tỷ đồ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TNHH 1TV: 10.071 DN; 49.214 tỷ đồ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TNHH 2TV trở lên: 11.133 DN; 56.926 tỷ đồ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Hợp danh : 3 DN; 3 tỷ đồ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anh nghiệp tư nhân : 5.438 DN; 8.350 tỷ đồng</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Đơn vị trực thuộc : 8.629 đơn vị</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Tình hình DN giải thể và ngừng họat động</a:t>
            </a:r>
            <a:endParaRPr b="0" lang="en-US" sz="28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Giải thể 1.079 DN, 967 đơn vị trực thuộc; Tạm ngừng họat động 1.128 DN, 107 đơn vị trực thuộc, trong đó:</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CP : Giải thể 84 DN; Tạm ngừng họat động 56 D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TNHH 1TV: Giải thể 327 DN; Tạm ngừng họat động 399 D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ty TNHH 2TV trở lên: Giải thể 412 DN; Tạm ngừng họat động 473 D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anh nghiệp tư nhân : Giải thể 256 DN; Tạm ngừng họat động 200 D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Đơn vị trực thuộc : Giải thể 967 đơn vị, Tạm ngừng họat động 107 đơn vị</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400" spc="-1" strike="noStrike">
                <a:solidFill>
                  <a:srgbClr val="0066ff"/>
                </a:solidFill>
                <a:latin typeface="Times New Roman"/>
              </a:rPr>
              <a:t>Một số chính sách hỗ trợ doanh nghiệp đã được UBND tỉnh ban hành và tổ chức thực hiện :</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400" spc="-1" strike="noStrike">
                <a:solidFill>
                  <a:srgbClr val="ff6600"/>
                </a:solidFill>
                <a:latin typeface="Times New Roman"/>
              </a:rPr>
              <a:t>Quyết định số 1852/QĐ-UBND</a:t>
            </a:r>
            <a:r>
              <a:rPr b="0" lang="af-ZA" sz="2400" spc="-1" strike="noStrike">
                <a:solidFill>
                  <a:srgbClr val="000000"/>
                </a:solidFill>
                <a:latin typeface="Times New Roman"/>
              </a:rPr>
              <a:t> ngày 26/7/2011 và </a:t>
            </a:r>
            <a:r>
              <a:rPr b="0" lang="es-AR" sz="2400" spc="-1" strike="noStrike">
                <a:solidFill>
                  <a:srgbClr val="ff6600"/>
                </a:solidFill>
                <a:latin typeface="Times New Roman"/>
              </a:rPr>
              <a:t>Quyết định số 837</a:t>
            </a:r>
            <a:r>
              <a:rPr b="0" lang="es-AR" sz="2400" spc="-1" strike="noStrike">
                <a:solidFill>
                  <a:srgbClr val="000000"/>
                </a:solidFill>
                <a:latin typeface="Times New Roman"/>
              </a:rPr>
              <a:t>/QĐ-UBND ngày 22/3/2016 </a:t>
            </a:r>
            <a:r>
              <a:rPr b="0" lang="af-ZA" sz="2400" spc="-1" strike="noStrike">
                <a:solidFill>
                  <a:srgbClr val="000000"/>
                </a:solidFill>
                <a:latin typeface="Times New Roman"/>
              </a:rPr>
              <a:t> về Chương trình khoa học và công nghệ hỗ trợ doanh nghiệp nâng cao năng lực cạnh tranh, áp dụng hệ thống quản lý chất lượng tiên tiến, bảo hộ sở hữu trí tuệ trong quá trình hội nhập</a:t>
            </a:r>
            <a:r>
              <a:rPr b="0" lang="es-AR"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43/2012/QĐ-UBND </a:t>
            </a:r>
            <a:r>
              <a:rPr b="0" lang="it-IT" sz="2400" spc="-1" strike="noStrike">
                <a:solidFill>
                  <a:srgbClr val="000000"/>
                </a:solidFill>
                <a:latin typeface="Times New Roman"/>
              </a:rPr>
              <a:t>ngày 06/8/2012 về việc ban hành quy chế hỗ trợ sau đầu tư đối với doanh nghiệp nhỏ và vừa trên địa bàn tỉnh Đồng Nai.</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34/2012/QĐ-UBND</a:t>
            </a:r>
            <a:r>
              <a:rPr b="0" lang="it-IT" sz="2400" spc="-1" strike="noStrike">
                <a:solidFill>
                  <a:srgbClr val="000000"/>
                </a:solidFill>
                <a:latin typeface="Times New Roman"/>
              </a:rPr>
              <a:t> ngày 07/6/2012 quy định mức chi hỗ trợ, khuyến khích phát triển Hợp tác xã, Tổ hợp tác trên địa bàn tỉnh Đồng Nai</a:t>
            </a:r>
            <a:endParaRPr b="0" lang="en-US" sz="2400" spc="-1" strike="noStrike">
              <a:solidFill>
                <a:srgbClr val="000000"/>
              </a:solidFill>
              <a:latin typeface="Times New Roman"/>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2670/QĐ-UBND </a:t>
            </a:r>
            <a:r>
              <a:rPr b="0" lang="it-IT" sz="2400" spc="-1" strike="noStrike">
                <a:solidFill>
                  <a:srgbClr val="000000"/>
                </a:solidFill>
                <a:latin typeface="Times New Roman"/>
              </a:rPr>
              <a:t>ngày 29/8/2014 về việc thành lập Quỹ bảo lãnh tín dụng cho doanh nghiệp nhỏ và vừa tỉnh Đồng Nai.</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61/2013/QĐ-UBND</a:t>
            </a:r>
            <a:r>
              <a:rPr b="0" lang="it-IT" sz="2400" spc="-1" strike="noStrike">
                <a:solidFill>
                  <a:srgbClr val="000000"/>
                </a:solidFill>
                <a:latin typeface="Times New Roman"/>
              </a:rPr>
              <a:t> ngày 30/9/2013 Quy định chế độ miễn giảm thu tiền sử dụng đất, tiền thuê đất đối với các dự án thực hiện xã hội hóa.</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74/2014/QĐ-UBND </a:t>
            </a:r>
            <a:r>
              <a:rPr b="0" lang="it-IT" sz="2400" spc="-1" strike="noStrike">
                <a:solidFill>
                  <a:srgbClr val="000000"/>
                </a:solidFill>
                <a:latin typeface="Times New Roman"/>
              </a:rPr>
              <a:t>ngày 31/12/2014 về việc ban hành quy định về mức ưu đãi và hỗ trợ cho các doanh nghiệp đầu tư vào nông nghiệp, nông thôn .</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58/2014/QĐ-UBND </a:t>
            </a:r>
            <a:r>
              <a:rPr b="0" lang="it-IT" sz="2400" spc="-1" strike="noStrike">
                <a:solidFill>
                  <a:srgbClr val="000000"/>
                </a:solidFill>
                <a:latin typeface="Times New Roman"/>
              </a:rPr>
              <a:t>ngày 24/11/2014 của UBND tỉnh ban hành quy định chính sách hỗ trợ, khuyến khích phát triển hợp tác, liên kết sản xuất gắn với tiêu thụ nông sản, xây dựng cánh đồng lớn.</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6600"/>
                </a:solidFill>
                <a:latin typeface="Times New Roman"/>
              </a:rPr>
              <a:t>Quyết định số 72/2014/QĐ-UBND</a:t>
            </a:r>
            <a:r>
              <a:rPr b="0" lang="it-IT" sz="2400" spc="-1" strike="noStrike">
                <a:solidFill>
                  <a:srgbClr val="000000"/>
                </a:solidFill>
                <a:latin typeface="Times New Roman"/>
              </a:rPr>
              <a:t> ngày 26/12/2014 của UBND tỉnh Đồng Nai ban hành quy định về mức hỗ trợ đầu tư xây dựng chợ nông thôn .</a:t>
            </a:r>
            <a:endParaRPr b="0" lang="en-US" sz="2400" spc="-1" strike="noStrike">
              <a:solidFill>
                <a:srgbClr val="000000"/>
              </a:solidFill>
              <a:latin typeface="Times New Roman"/>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8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6600"/>
                </a:solidFill>
                <a:latin typeface="Times New Roman"/>
              </a:rPr>
              <a:t>Quyết định số 42/2015/QĐ-UBND </a:t>
            </a:r>
            <a:r>
              <a:rPr b="0" lang="it-IT" sz="2600" spc="-1" strike="noStrike">
                <a:solidFill>
                  <a:srgbClr val="000000"/>
                </a:solidFill>
                <a:latin typeface="Times New Roman"/>
              </a:rPr>
              <a:t>ngày 30/11/2015 Quy định một số cơ chế, chính sách ưu đãi, khuyến khích đầu tư và quản lý khai thác công trình cấp nước sạch nông thôn tỉnh Đồng Nai đến năm 2020.</a:t>
            </a:r>
            <a:endParaRPr b="0" lang="en-US" sz="2600" spc="-1" strike="noStrike">
              <a:solidFill>
                <a:srgbClr val="000000"/>
              </a:solidFill>
              <a:latin typeface="Times New Roman"/>
            </a:endParaRPr>
          </a:p>
          <a:p>
            <a:pPr marL="343080" indent="-343080" algn="just">
              <a:lnSpc>
                <a:spcPct val="8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6600"/>
                </a:solidFill>
                <a:latin typeface="Times New Roman"/>
              </a:rPr>
              <a:t>Quyết định số 32/2016/QĐ-UBND </a:t>
            </a:r>
            <a:r>
              <a:rPr b="0" lang="it-IT" sz="2600" spc="-1" strike="noStrike">
                <a:solidFill>
                  <a:srgbClr val="000000"/>
                </a:solidFill>
                <a:latin typeface="Times New Roman"/>
              </a:rPr>
              <a:t>ngày 19/5/2016 ban hành Q</a:t>
            </a:r>
            <a:r>
              <a:rPr b="0" lang="vi-VN" sz="2600" spc="-1" strike="noStrike">
                <a:solidFill>
                  <a:srgbClr val="000000"/>
                </a:solidFill>
                <a:latin typeface="Times New Roman"/>
              </a:rPr>
              <a:t>uy định</a:t>
            </a:r>
            <a:r>
              <a:rPr b="0" lang="it-IT" sz="2600" spc="-1" strike="noStrike">
                <a:solidFill>
                  <a:srgbClr val="000000"/>
                </a:solidFill>
                <a:latin typeface="Times New Roman"/>
              </a:rPr>
              <a:t> trình tự, thủ tục thực hiện một số chính sách hỗ trợ</a:t>
            </a:r>
            <a:r>
              <a:rPr b="0" lang="vi-VN" sz="2600" spc="-1" strike="noStrike">
                <a:solidFill>
                  <a:srgbClr val="000000"/>
                </a:solidFill>
                <a:latin typeface="Times New Roman"/>
              </a:rPr>
              <a:t> phát triển</a:t>
            </a:r>
            <a:r>
              <a:rPr b="0" lang="it-IT" sz="2600" spc="-1" strike="noStrike">
                <a:solidFill>
                  <a:srgbClr val="000000"/>
                </a:solidFill>
                <a:latin typeface="Times New Roman"/>
              </a:rPr>
              <a:t> c</a:t>
            </a:r>
            <a:r>
              <a:rPr b="0" lang="vi-VN" sz="2600" spc="-1" strike="noStrike">
                <a:solidFill>
                  <a:srgbClr val="000000"/>
                </a:solidFill>
                <a:latin typeface="Times New Roman"/>
              </a:rPr>
              <a:t>ụm công nghiệp </a:t>
            </a:r>
            <a:r>
              <a:rPr b="0" lang="it-IT" sz="2600" spc="-1" strike="noStrike">
                <a:solidFill>
                  <a:srgbClr val="000000"/>
                </a:solidFill>
                <a:latin typeface="Times New Roman"/>
              </a:rPr>
              <a:t>trên địa bàn </a:t>
            </a:r>
            <a:r>
              <a:rPr b="0" lang="vi-VN" sz="2600" spc="-1" strike="noStrike">
                <a:solidFill>
                  <a:srgbClr val="000000"/>
                </a:solidFill>
                <a:latin typeface="Times New Roman"/>
              </a:rPr>
              <a:t>tỉnh </a:t>
            </a:r>
            <a:r>
              <a:rPr b="0" lang="it-IT" sz="2600" spc="-1" strike="noStrike">
                <a:solidFill>
                  <a:srgbClr val="000000"/>
                </a:solidFill>
                <a:latin typeface="Times New Roman"/>
              </a:rPr>
              <a:t>Đồng Nai</a:t>
            </a:r>
            <a:r>
              <a:rPr b="0" lang="vi-VN" sz="2600" spc="-1" strike="noStrike">
                <a:solidFill>
                  <a:srgbClr val="000000"/>
                </a:solidFill>
                <a:latin typeface="Times New Roman"/>
              </a:rPr>
              <a:t> giai đoạn 201</a:t>
            </a:r>
            <a:r>
              <a:rPr b="0" lang="it-IT" sz="2600" spc="-1" strike="noStrike">
                <a:solidFill>
                  <a:srgbClr val="000000"/>
                </a:solidFill>
                <a:latin typeface="Times New Roman"/>
              </a:rPr>
              <a:t>6 -</a:t>
            </a:r>
            <a:r>
              <a:rPr b="0" lang="vi-VN" sz="2600" spc="-1" strike="noStrike">
                <a:solidFill>
                  <a:srgbClr val="000000"/>
                </a:solidFill>
                <a:latin typeface="Times New Roman"/>
              </a:rPr>
              <a:t> 2020</a:t>
            </a:r>
            <a:r>
              <a:rPr b="0" lang="it-IT"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gn="just">
              <a:lnSpc>
                <a:spcPct val="8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Quyết định số 2420/QĐ-UBND</a:t>
            </a:r>
            <a:r>
              <a:rPr b="0" lang="en-US" sz="2600" spc="-1" strike="noStrike">
                <a:solidFill>
                  <a:srgbClr val="000000"/>
                </a:solidFill>
                <a:latin typeface="Times New Roman"/>
              </a:rPr>
              <a:t> ngày 02/8/2016 phê duyệt Đề án “Hỗ trợ doanh nghiệp trong công tác đăng ký doanh nghiệp trên địa bàn tỉnh Đồng Nai giai đoạn 2016 - 2020”.</a:t>
            </a:r>
            <a:endParaRPr b="0" lang="en-US" sz="2600" spc="-1" strike="noStrike">
              <a:solidFill>
                <a:srgbClr val="000000"/>
              </a:solidFill>
              <a:latin typeface="Times New Roman"/>
            </a:endParaRPr>
          </a:p>
        </p:txBody>
      </p:sp>
    </p:spTree>
  </p:cSld>
  <p:transition spd="slow">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6600"/>
                </a:solidFill>
                <a:latin typeface="Times New Roman"/>
              </a:rPr>
              <a:t>Chương trình hành động số 5422/Ctr-UBND </a:t>
            </a:r>
            <a:r>
              <a:rPr b="0" lang="vi-VN" sz="2400" spc="-1" strike="noStrike">
                <a:solidFill>
                  <a:srgbClr val="000000"/>
                </a:solidFill>
                <a:latin typeface="Times New Roman"/>
              </a:rPr>
              <a:t>ngày 28/6/2016 của UBND tỉnh Đồng Nai triển khai Nghị quyết 19/NQ-CP ngày 28/4/2016 của Chính phủ, giải pháp nâng cao năng lực cạnh tranh cấp tỉnh, chỉ số hiệu quả quản trị và hành chính công cấp tỉnh (PAPI) và chỉ số PAR INDEX trên địa bàn tỉnh Đồng Nai giai đoạn 2016-2017, định hướng đến năm 2020</a:t>
            </a:r>
            <a:r>
              <a:rPr b="0" lang="en-US" sz="2400" spc="-1" strike="noStrike">
                <a:solidFill>
                  <a:srgbClr val="000000"/>
                </a:solidFill>
                <a:latin typeface="Times New Roman"/>
              </a:rPr>
              <a:t>. </a:t>
            </a:r>
            <a:r>
              <a:rPr b="0" i="1" lang="en-US" sz="2400" spc="-1" strike="noStrike">
                <a:solidFill>
                  <a:srgbClr val="ff6600"/>
                </a:solidFill>
                <a:latin typeface="Times New Roman"/>
              </a:rPr>
              <a:t>(*4)</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6600"/>
                </a:solidFill>
                <a:latin typeface="Times New Roman"/>
              </a:rPr>
              <a:t>Kế hoạch số 6258/KH-UBND </a:t>
            </a:r>
            <a:r>
              <a:rPr b="0" lang="vi-VN" sz="2400" spc="-1" strike="noStrike">
                <a:solidFill>
                  <a:srgbClr val="000000"/>
                </a:solidFill>
                <a:latin typeface="Times New Roman"/>
              </a:rPr>
              <a:t>ngày 22/7/2016 của UBND tỉnh Đồng Nai triển khai thực hiện các nhiệm vụ, giải pháp chủ yếu cải thiện môi trường kinh doanh, nâng cao năng lực cạnh tranh cấp tỉnh (PCI) của tỉnh Đồng Nai hai năm </a:t>
            </a:r>
            <a:r>
              <a:rPr b="0" lang="vi-VN" sz="2400" spc="-1" strike="noStrike">
                <a:solidFill>
                  <a:srgbClr val="ff6600"/>
                </a:solidFill>
                <a:latin typeface="Times New Roman"/>
              </a:rPr>
              <a:t>2016-2017</a:t>
            </a:r>
            <a:r>
              <a:rPr b="0" lang="en-US" sz="2400" spc="-1" strike="noStrike">
                <a:solidFill>
                  <a:srgbClr val="ff66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Kế hoạch số 7912/KH-UBND </a:t>
            </a:r>
            <a:r>
              <a:rPr b="0" lang="en-US" sz="2400" spc="-1" strike="noStrike">
                <a:solidFill>
                  <a:srgbClr val="000000"/>
                </a:solidFill>
                <a:latin typeface="Times New Roman"/>
              </a:rPr>
              <a:t>ngày 31/8/2016 về việc thực hiện Nghị quyết số 35/NQ-CP ngày 16/5/2016 của Chính phủ về hỗ trợ và phát triển doanh nghiệp đến năm 2020… </a:t>
            </a:r>
            <a:endParaRPr b="0" lang="en-US" sz="2400" spc="-1" strike="noStrike">
              <a:solidFill>
                <a:srgbClr val="000000"/>
              </a:solidFill>
              <a:latin typeface="Times New Roman"/>
            </a:endParaRPr>
          </a:p>
        </p:txBody>
      </p:sp>
    </p:spTree>
  </p:cSld>
  <p:transition spd="slow">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Times New Roman"/>
              </a:rPr>
              <a:t>Tôn vinh và đề</a:t>
            </a:r>
            <a:r>
              <a:rPr b="1" lang="af-ZA" sz="2600" spc="-1" strike="noStrike">
                <a:solidFill>
                  <a:srgbClr val="0066ff"/>
                </a:solidFill>
                <a:latin typeface="Times New Roman"/>
              </a:rPr>
              <a:t> cao đạo đức, văn hóa kinh doanh, trách nhiệm xã hội, tinh thần dân tộc của đội ngũ doanh nhân.</a:t>
            </a:r>
            <a:endParaRPr b="0" lang="en-US" sz="2600" spc="-1" strike="noStrike">
              <a:solidFill>
                <a:srgbClr val="000000"/>
              </a:solidFill>
              <a:latin typeface="Times New Roman"/>
            </a:endParaRPr>
          </a:p>
          <a:p>
            <a:pPr marL="343080" indent="-343080" algn="just">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600" spc="-1" strike="noStrike">
                <a:solidFill>
                  <a:srgbClr val="ff0000"/>
                </a:solidFill>
                <a:latin typeface="Times New Roman"/>
              </a:rPr>
              <a:t>Tổ chức trang trọng ngày doanh nhân VN 13/10 hàng năm</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yết định số 30/2013/QĐ-UBND ngày 17/5/2013 của UBND tỉnh về việc ban hành quy định tiêu chuẩn, trình tự xem xét, khen thưởng danh hiệu </a:t>
            </a:r>
            <a:r>
              <a:rPr b="0" lang="en-US" sz="2600" spc="-1" strike="noStrike">
                <a:solidFill>
                  <a:srgbClr val="ff0000"/>
                </a:solidFill>
                <a:latin typeface="Times New Roman"/>
              </a:rPr>
              <a:t>“Doanh nghiệp xuất sắc, “Doanh nhân xuất sắc”, </a:t>
            </a:r>
            <a:r>
              <a:rPr b="0" lang="en-US" sz="2600" spc="-1" strike="noStrike">
                <a:solidFill>
                  <a:srgbClr val="000000"/>
                </a:solidFill>
                <a:latin typeface="Times New Roman"/>
              </a:rPr>
              <a:t>trên địa bàn tỉnh Đồng Nai thì danh hiệu “Doanh nghiệp xuất sắc, “Doanh nhân xuất sắc” sẽ được xét chọn và trao tặng định kỳ 3 năm 1 lần và bắt đầu vào năm 2007.</a:t>
            </a:r>
            <a:endParaRPr b="0" lang="en-US" sz="2600" spc="-1" strike="noStrike">
              <a:solidFill>
                <a:srgbClr val="000000"/>
              </a:solidFill>
              <a:latin typeface="Times New Roman"/>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64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600" spc="-1" strike="noStrike">
                <a:solidFill>
                  <a:srgbClr val="0066ff"/>
                </a:solidFill>
                <a:latin typeface="Times New Roman"/>
              </a:rPr>
              <a:t>Phát huy vai trò của các tổ chức đại diện của cộng đồng doanh nghiệp và đội ngũ doanh nhâ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600" spc="-1" strike="noStrike">
                <a:solidFill>
                  <a:srgbClr val="000000"/>
                </a:solidFill>
                <a:latin typeface="Times New Roman"/>
              </a:rPr>
              <a:t>Phát huy vai trò đại diện và phản biện của doanh nghiệp, các Hội, Hiệp hội doanh nghiệp trên địa bàn tỉnh, đặc biệt là Hiệp hội doanh nghiệp tỉnh, Hội doanh nhân trẻ.</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Ngày 24/8/2016, UBND tỉnh Đồng Nai và VCCI ký bản cam kết phối hợp hỗ trợ doanh nghiệp và cải thiện môi trường đầu tư kinh doanh, nâng cao chỉ số PCI</a:t>
            </a:r>
            <a:r>
              <a:rPr b="0" lang="af-ZA" sz="2600" spc="-1" strike="noStrike">
                <a:solidFill>
                  <a:srgbClr val="000000"/>
                </a:solidFill>
                <a:latin typeface="Times New Roman"/>
              </a:rPr>
              <a:t>. </a:t>
            </a:r>
            <a:r>
              <a:rPr b="0" i="1" lang="af-ZA" sz="2600" spc="-1" strike="noStrike">
                <a:solidFill>
                  <a:srgbClr val="ff6600"/>
                </a:solidFill>
                <a:latin typeface="Times New Roman"/>
              </a:rPr>
              <a:t>(*5)</a:t>
            </a:r>
            <a:endParaRPr b="0" lang="en-US" sz="2600" spc="-1" strike="noStrike">
              <a:solidFill>
                <a:srgbClr val="000000"/>
              </a:solidFill>
              <a:latin typeface="Times New Roman"/>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8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Tăng cường công tác cải cách thủ tục hành chính, kiểm tra giám sát</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ập trung thực hiện</a:t>
            </a:r>
            <a:r>
              <a:rPr b="0" lang="vi-VN" sz="2400" spc="-1" strike="noStrike">
                <a:solidFill>
                  <a:srgbClr val="000000"/>
                </a:solidFill>
                <a:latin typeface="Times New Roman"/>
              </a:rPr>
              <a:t> </a:t>
            </a:r>
            <a:r>
              <a:rPr b="0" lang="en-US" sz="2400" spc="-1" strike="noStrike">
                <a:solidFill>
                  <a:srgbClr val="000000"/>
                </a:solidFill>
                <a:latin typeface="Times New Roman"/>
              </a:rPr>
              <a:t>Chương trình tổng thể về cải cách hành chính </a:t>
            </a:r>
            <a:r>
              <a:rPr b="0" lang="vi-VN" sz="2400" spc="-1" strike="noStrike">
                <a:solidFill>
                  <a:srgbClr val="000000"/>
                </a:solidFill>
                <a:latin typeface="Times New Roman"/>
              </a:rPr>
              <a:t>của tỉnh</a:t>
            </a:r>
            <a:r>
              <a:rPr b="0" lang="en-US" sz="2400" spc="-1" strike="noStrike">
                <a:solidFill>
                  <a:srgbClr val="000000"/>
                </a:solidFill>
                <a:latin typeface="Times New Roman"/>
              </a:rPr>
              <a:t>. Cơ chế một cửa, một cửa liên thông hiện đại đã áp dụng 100% tại các cơ quan hành chính.</a:t>
            </a:r>
            <a:endParaRPr b="0" lang="en-US" sz="2400" spc="-1" strike="noStrike">
              <a:solidFill>
                <a:srgbClr val="000000"/>
              </a:solidFill>
              <a:latin typeface="Times New Roman"/>
            </a:endParaRPr>
          </a:p>
          <a:p>
            <a:pPr marL="343080" indent="-343080" algn="just">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ình thành và đưa vào họat động Trung tâm hành chính công cấp tỉnh từ tháng 15/5/2017.</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vi-VN" sz="2400" spc="-1" strike="noStrike">
                <a:solidFill>
                  <a:srgbClr val="000000"/>
                </a:solidFill>
                <a:latin typeface="Times New Roman"/>
              </a:rPr>
              <a:t>âng cao hiệu quả hoạt động trong công tác giải quyết xét xử các loại án kinh doanh thương mại.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vi-VN" sz="2400" spc="-1" strike="noStrike">
                <a:solidFill>
                  <a:srgbClr val="000000"/>
                </a:solidFill>
                <a:latin typeface="Times New Roman"/>
              </a:rPr>
              <a:t>an hành Quyết định số 34/2016/QĐ-UBND ngày 08/6/2016 về Quy chế phối hợp giữa các cơ quan chức năng trong quản lý nhà nước đối với doanh nghiệp sau đăng ký thành lập trên địa bàn tỉnh Đồng Nai</a:t>
            </a:r>
            <a:r>
              <a:rPr b="0" lang="en-US" sz="2400" spc="-1" strike="noStrike">
                <a:solidFill>
                  <a:srgbClr val="000000"/>
                </a:solidFill>
                <a:latin typeface="Times New Roman"/>
              </a:rPr>
              <a:t>, trong đó việc Thanh kiểm tra có sự phối hợp chặt chẽ, tránh chồng chéo, kiểm tra nhiều lần.</a:t>
            </a:r>
            <a:endParaRPr b="0" lang="en-US" sz="2400" spc="-1" strike="noStrike">
              <a:solidFill>
                <a:srgbClr val="000000"/>
              </a:solidFill>
              <a:latin typeface="Times New Roman"/>
            </a:endParaRPr>
          </a:p>
        </p:txBody>
      </p:sp>
    </p:spTree>
  </p:cSld>
  <p:transition spd="slow">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ff"/>
                </a:solidFill>
                <a:latin typeface="Times New Roman"/>
              </a:rPr>
              <a:t>Khó khăn, vướng mắ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ương tự tình hình chung cả nướ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hần lớn các cơ sở, doanh nghiệp sản xuất công nghiệp nông thôn có quy mô nhỏ, năng lực cạnh tranh thấp.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ệc chấp hành pháp luật tại một số cơ sở, doanh nghiệp chưa nghiêm.</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ông tác thành lập các tổ chức đoàn thể trong cơ sở, doanh nghiệp chưa được chú trọng</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Ý thức về những khó khăn, thách thức khi hội nhập kinh tế quốc tế còn nhiều doanh nghiệp chưa quan tâm đúng mức.</a:t>
            </a:r>
            <a:endParaRPr b="0" lang="en-US" sz="2800" spc="-1" strike="noStrike">
              <a:solidFill>
                <a:srgbClr val="000000"/>
              </a:solidFill>
              <a:latin typeface="Times New Roman"/>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4AA7A-07A6-4FC7-A041-9E7FBA71A5DC}"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5" name="PlaceHolder 1"/>
          <p:cNvSpPr>
            <a:spLocks noGrp="1"/>
          </p:cNvSpPr>
          <p:nvPr>
            <p:ph/>
          </p:nvPr>
        </p:nvSpPr>
        <p:spPr>
          <a:xfrm>
            <a:off x="380520" y="1447560"/>
            <a:ext cx="8458200" cy="5105160"/>
          </a:xfrm>
          <a:prstGeom prst="rect">
            <a:avLst/>
          </a:prstGeom>
          <a:noFill/>
          <a:ln w="0">
            <a:noFill/>
          </a:ln>
        </p:spPr>
        <p:txBody>
          <a:bodyPr anchor="t">
            <a:normAutofit/>
          </a:bodyPr>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Q 14-NQ/TW ngày 18/3/2002 (NQTW 5 khoá IX) </a:t>
            </a:r>
            <a:r>
              <a:rPr b="0" lang="en-US" sz="2800" spc="-1" strike="noStrike">
                <a:solidFill>
                  <a:srgbClr val="ff0000"/>
                </a:solidFill>
                <a:latin typeface="Times New Roman"/>
              </a:rPr>
              <a:t>"Về tiếp tục đổi mới cơ chế, chính sách, khuyến khích và tạo điều kiện phát triển kinh tế tư nhân"</a:t>
            </a:r>
            <a:r>
              <a:rPr b="0" lang="en-US" sz="2800" spc="-1" strike="noStrike">
                <a:solidFill>
                  <a:srgbClr val="000000"/>
                </a:solidFill>
                <a:latin typeface="Times New Roman"/>
              </a:rPr>
              <a:t>, tạo thuận lợi cho kinh tế tư nhân không ngừng phát triển, đóng góp ngày càng lớn vào sự nghiệp đổi mới của đất nước.</a:t>
            </a:r>
            <a:endParaRPr b="0" lang="en-US" sz="2800" spc="-1" strike="noStrike">
              <a:solidFill>
                <a:srgbClr val="000000"/>
              </a:solidFill>
              <a:latin typeface="Times New Roman"/>
            </a:endParaRPr>
          </a:p>
        </p:txBody>
      </p:sp>
      <p:sp>
        <p:nvSpPr>
          <p:cNvPr id="56" name="Rectangle 4"/>
          <p:cNvSpPr/>
          <p:nvPr/>
        </p:nvSpPr>
        <p:spPr>
          <a:xfrm>
            <a:off x="0" y="457200"/>
            <a:ext cx="708660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Kết quả đạt được</a:t>
            </a:r>
            <a:endParaRPr b="1" lang="en-US" sz="3200" spc="-1" strike="noStrike">
              <a:solidFill>
                <a:srgbClr val="ffffff"/>
              </a:solidFill>
              <a:latin typeface="VNI-Times"/>
            </a:endParaRPr>
          </a:p>
        </p:txBody>
      </p:sp>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7ED7-4613-456E-BA65-62477D6F595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1"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N ĐIỂM CHỈ ĐẠO VÀ MỤC TIÊU</a:t>
            </a:r>
            <a:endParaRPr b="0" lang="en-US" sz="3200" spc="-1" strike="noStrike">
              <a:solidFill>
                <a:srgbClr val="000000"/>
              </a:solidFill>
              <a:latin typeface="Times New Roman"/>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9E13-B279-4642-B021-5E86ED9A3C2F}"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4"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Quan điểm chỉ đạo</a:t>
            </a:r>
            <a:endParaRPr b="0" lang="en-US" sz="3200" spc="-1" strike="noStrike">
              <a:solidFill>
                <a:srgbClr val="000000"/>
              </a:solidFill>
              <a:latin typeface="Times New Roman"/>
            </a:endParaRPr>
          </a:p>
        </p:txBody>
      </p:sp>
      <p:sp>
        <p:nvSpPr>
          <p:cNvPr id="95"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Phát triển kinh tế tư nhân lành mạnh là một yêu cầu khách quan, vừa cấp thiết, vừa lâu dài</a:t>
            </a:r>
            <a:r>
              <a:rPr b="0" lang="en-US" sz="2800" spc="-1" strike="noStrike">
                <a:solidFill>
                  <a:srgbClr val="000000"/>
                </a:solidFill>
                <a:latin typeface="Times New Roman"/>
              </a:rPr>
              <a:t>; là một phương sách quan trọng để giải phóng sức sản xuất; huy động, phân bổ và sử dụng có hiệu quả các nguồn lực phát triển.</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Kinh tế tư nhân là một động lực quan trọng để phát triển kinh tế</a:t>
            </a:r>
            <a:r>
              <a:rPr b="0" lang="en-US" sz="2800" spc="-1" strike="noStrike">
                <a:solidFill>
                  <a:srgbClr val="000000"/>
                </a:solidFill>
                <a:latin typeface="Times New Roman"/>
              </a:rPr>
              <a:t>. Khuyến khích, tạo điều kiện thuận lợi để kinh tế tư nhân phát triển nhanh, bền vững, đa dạng với tốc độ tăng trưởng cao cả về số lượng, quy mô, chất lượng và tỉ trọng đóng góp trong GDP.</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Xoá bỏ mọi rào cản, định kiến, tạo mọi điều kiện để phát triển kinh tế tư nhân lành mạnh và đúng định hướng</a:t>
            </a:r>
            <a:r>
              <a:rPr b="0" lang="en-US" sz="2800" spc="-1" strike="noStrike">
                <a:solidFill>
                  <a:srgbClr val="000000"/>
                </a:solidFill>
                <a:latin typeface="Times New Roman"/>
              </a:rPr>
              <a:t>. Phòng, chống mọi biểu hiện của "chủ nghĩa tư bản thân hữu", quan hệ "lợi ích nhóm“.</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Kinh tế tư nhân được phát triển ở tất cả các ngành, lĩnh vực mà pháp luật không cấm</a:t>
            </a:r>
            <a:r>
              <a:rPr b="0" lang="en-US" sz="2800" spc="-1" strike="noStrike">
                <a:solidFill>
                  <a:srgbClr val="000000"/>
                </a:solidFill>
                <a:latin typeface="Times New Roman"/>
              </a:rPr>
              <a:t>. Tạo môi trường và điều kiện thuận lợi để các hộ kinh doanh tự nguyện liên kết hình thành các hình thức tổ chức hợp tác hoặc hoạt động theo mô hình doanh nghiệp. Khuyến khích hình thành các tập đoàn kinh tế tư nhân đa sở hữu.</a:t>
            </a:r>
            <a:endParaRPr b="0" lang="en-US" sz="2800" spc="-1" strike="noStrike">
              <a:solidFill>
                <a:srgbClr val="000000"/>
              </a:solidFill>
              <a:latin typeface="Times New Roman"/>
            </a:endParaRPr>
          </a:p>
        </p:txBody>
      </p:sp>
    </p:spTree>
  </p:cSld>
  <p:transition spd="slow">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Khuyến khích kinh tế tư nhân tham gia góp vốn, mua cổ phần của các doanh nghiệp nhà nước khi cổ phần hoá hoặc thoái vốn</a:t>
            </a:r>
            <a:r>
              <a:rPr b="0" lang="en-US" sz="2800" spc="-1" strike="noStrike">
                <a:solidFill>
                  <a:srgbClr val="000000"/>
                </a:solidFill>
                <a:latin typeface="Times New Roman"/>
              </a:rPr>
              <a:t>. Thúc đẩy phát triển mọi hình thức liên kết theo mạng sản xuất, chuỗi giá trị thị trường, nâng cao giá trị gia tăng và mở rộng thị trường tiêu thụ.</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Phát triển đội ngũ doanh nhân Việt Nam ngày càng vững mạnh, </a:t>
            </a:r>
            <a:r>
              <a:rPr b="0" lang="en-US" sz="2800" spc="-1" strike="noStrike">
                <a:solidFill>
                  <a:srgbClr val="000000"/>
                </a:solidFill>
                <a:latin typeface="Times New Roman"/>
              </a:rPr>
              <a:t>có ý thức chấp hành pháp luật, trách nhiệm với xã hội và kỹ năng lãnh đạo, quản trị cao; chú trọng xây dựng văn hoá doanh nghiệp, đạo đức doanh nhân.</a:t>
            </a:r>
            <a:endParaRPr b="0" lang="en-US" sz="2800" spc="-1" strike="noStrike">
              <a:solidFill>
                <a:srgbClr val="000000"/>
              </a:solidFill>
              <a:latin typeface="Times New Roman"/>
            </a:endParaRPr>
          </a:p>
        </p:txBody>
      </p:sp>
    </p:spTree>
  </p:cSld>
  <p:transition spd="slow">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CF8B-13CB-428C-B50B-89E542F0A177}"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9"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Mục tiêu tổng quát</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kinh tế tư nhân lành mạnh, hiệu quả, bền vững, thực sự trở thành một động lực quan trọng của nền kinh tế thị trường định hướng xã hội chủ nghĩa, góp phần phát triển kinh tế - xã hội nhanh, bền vững, không ngừng nâng cao đời sống của nhân dân, thực hiện tiến bộ, công bằng xã hội, bảo đảm quốc phòng, an ninh, sớm đưa nước ta trở thành nước công nghiệp theo hướng hiện đại.</a:t>
            </a:r>
            <a:endParaRPr b="0" lang="en-US" sz="2800" spc="-1" strike="noStrike">
              <a:solidFill>
                <a:srgbClr val="000000"/>
              </a:solidFill>
              <a:latin typeface="Times New Roman"/>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5CB8-E64A-4427-870F-6880DD23062E}"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02"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Mục tiêu cụ thể</a:t>
            </a:r>
            <a:endParaRPr b="0" lang="en-US" sz="3200" spc="-1" strike="noStrike">
              <a:solidFill>
                <a:srgbClr val="000000"/>
              </a:solidFill>
              <a:latin typeface="Times New Roman"/>
            </a:endParaRPr>
          </a:p>
        </p:txBody>
      </p:sp>
      <p:sp>
        <p:nvSpPr>
          <p:cNvPr id="103" name="PlaceHolder 2"/>
          <p:cNvSpPr>
            <a:spLocks noGrp="1"/>
          </p:cNvSpPr>
          <p:nvPr>
            <p:ph/>
          </p:nvPr>
        </p:nvSpPr>
        <p:spPr>
          <a:xfrm>
            <a:off x="457200" y="1143000"/>
            <a:ext cx="8153280" cy="4952880"/>
          </a:xfrm>
          <a:prstGeom prst="rect">
            <a:avLst/>
          </a:prstGeom>
          <a:noFill/>
          <a:ln w="0">
            <a:noFill/>
          </a:ln>
        </p:spPr>
        <p:txBody>
          <a:bodyPr anchor="t">
            <a:normAutofit/>
          </a:bodyPr>
          <a:p>
            <a:pPr marL="343080" indent="-343080" algn="just">
              <a:lnSpc>
                <a:spcPct val="8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Nâng cao chất lượng, hiệu quả kinh doanh kinh tế tư nhân</a:t>
            </a:r>
            <a:r>
              <a:rPr b="0" lang="en-US" sz="2600" spc="-1" strike="noStrike">
                <a:solidFill>
                  <a:srgbClr val="000000"/>
                </a:solidFill>
                <a:latin typeface="Times New Roman"/>
              </a:rPr>
              <a:t>. Phấn đấu đến năm 2020 có ít nhất 1 triệu doanh nghiệp; đến năm 2025 có hơn 1,5 triệu doanh nghiệp và đến năm 2030 có ít nhất 2 triệu doanh nghiệp.</a:t>
            </a:r>
            <a:endParaRPr b="0" lang="en-US" sz="2600" spc="-1" strike="noStrike">
              <a:solidFill>
                <a:srgbClr val="000000"/>
              </a:solidFill>
              <a:latin typeface="Times New Roman"/>
            </a:endParaRPr>
          </a:p>
          <a:p>
            <a:pPr marL="343080" indent="-343080" algn="just">
              <a:lnSpc>
                <a:spcPct val="8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ốc độ tăng trưởng KTTN cao hơn tốc độ tăng trưởng chung của nền kinh tế</a:t>
            </a:r>
            <a:r>
              <a:rPr b="0" lang="en-US" sz="2600" spc="-1" strike="noStrike">
                <a:solidFill>
                  <a:srgbClr val="000000"/>
                </a:solidFill>
                <a:latin typeface="Times New Roman"/>
              </a:rPr>
              <a:t>. Tăng tỉ trọng đóng góp của khu vực kinh tế tư nhân vào GDP đến năm 2020 đạt khoảng 50%, năm 2025 khoảng 55%, năm 2030 60 - 65%.</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iai đoạn 2016-2025</a:t>
            </a:r>
            <a:r>
              <a:rPr b="0" lang="en-US" sz="2600" spc="-1" strike="noStrike">
                <a:solidFill>
                  <a:srgbClr val="0066ff"/>
                </a:solidFill>
                <a:latin typeface="Times New Roman"/>
              </a:rPr>
              <a:t>, năng suất lao động tăng 4 - 5%/năm.</a:t>
            </a:r>
            <a:r>
              <a:rPr b="0" lang="en-US" sz="2600" spc="-1" strike="noStrike">
                <a:solidFill>
                  <a:srgbClr val="000000"/>
                </a:solidFill>
                <a:latin typeface="Times New Roman"/>
              </a:rPr>
              <a:t> Thu hẹp khoảng cách về trình độ công nghệ, chất lượng nhân lực, năng lực cạnh tranh của doanh nghiệp tư nhân so với nhóm dẫn đầu ASEAN-4; nhiều doanh nghiệp tư nhân tham gia mạng sản xuất, chuỗi giá trị khu vực và toàn cầu.</a:t>
            </a:r>
            <a:endParaRPr b="0" lang="en-US" sz="2600" spc="-1" strike="noStrike">
              <a:solidFill>
                <a:srgbClr val="000000"/>
              </a:solidFill>
              <a:latin typeface="Times New Roman"/>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92CE-CC53-4512-BE22-03E10DFB8630}"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05"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I</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HIỆM VỤ VÀ GIẢI PHÁP CHỦ YẾU</a:t>
            </a:r>
            <a:endParaRPr b="0" lang="en-US" sz="3200" spc="-1" strike="noStrike">
              <a:solidFill>
                <a:srgbClr val="000000"/>
              </a:solidFill>
              <a:latin typeface="Times New Roman"/>
            </a:endParaRPr>
          </a:p>
        </p:txBody>
      </p:sp>
    </p:spTree>
  </p:cSld>
  <p:transition spd="slow">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8DD-36D0-406F-83E7-EA168E82746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08" name="PlaceHolder 1"/>
          <p:cNvSpPr>
            <a:spLocks noGrp="1"/>
          </p:cNvSpPr>
          <p:nvPr>
            <p:ph type="title"/>
          </p:nvPr>
        </p:nvSpPr>
        <p:spPr>
          <a:xfrm>
            <a:off x="228240" y="228240"/>
            <a:ext cx="8915400" cy="10666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 Thống nhất nhận thức, tư tưởng, hành động trong triển khai các chủ trương, chính sách về phát triển KTTN</a:t>
            </a:r>
            <a:endParaRPr b="0" lang="en-US" sz="2600" spc="-1" strike="noStrike">
              <a:solidFill>
                <a:srgbClr val="000000"/>
              </a:solidFill>
              <a:latin typeface="Times New Roman"/>
            </a:endParaRPr>
          </a:p>
        </p:txBody>
      </p:sp>
      <p:sp>
        <p:nvSpPr>
          <p:cNvPr id="109" name="PlaceHolder 2"/>
          <p:cNvSpPr>
            <a:spLocks noGrp="1"/>
          </p:cNvSpPr>
          <p:nvPr>
            <p:ph/>
          </p:nvPr>
        </p:nvSpPr>
        <p:spPr>
          <a:xfrm>
            <a:off x="457200" y="1523880"/>
            <a:ext cx="8153280" cy="4572000"/>
          </a:xfrm>
          <a:prstGeom prst="rect">
            <a:avLst/>
          </a:prstGeom>
          <a:noFill/>
          <a:ln w="0">
            <a:noFill/>
          </a:ln>
        </p:spPr>
        <p:txBody>
          <a:bodyPr anchor="t">
            <a:normAutofit/>
          </a:bodyPr>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ạo sự đồng thuận cao trong xã hội về khuyến khích, tạo điều kiện phát triển kinh tế tư nhân.</a:t>
            </a:r>
            <a:endParaRPr b="0" lang="en-US" sz="3100" spc="-1" strike="noStrike">
              <a:solidFill>
                <a:srgbClr val="000000"/>
              </a:solidFill>
              <a:latin typeface="Times New Roman"/>
            </a:endParaRPr>
          </a:p>
          <a:p>
            <a:pPr marL="343080" indent="-343080" algn="just">
              <a:spcBef>
                <a:spcPts val="774"/>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6600"/>
                </a:solidFill>
                <a:latin typeface="Times New Roman"/>
              </a:rPr>
              <a:t>Phát huy thế mạnh và tiềm năng của kinh tế tư nhân đi đôi với khắc phục có hiệu quả những mặt trái phát sinh .</a:t>
            </a:r>
            <a:endParaRPr b="0" lang="en-US" sz="3100" spc="-1" strike="noStrike">
              <a:solidFill>
                <a:srgbClr val="000000"/>
              </a:solidFill>
              <a:latin typeface="Times New Roman"/>
            </a:endParaRPr>
          </a:p>
          <a:p>
            <a:pPr marL="343080" indent="-343080" algn="just">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hòng, chống có hiệu quả các biểu hiện suy thoái về tư tưởng chính trị, đạo đức, lối sống, "tự diễn biến", "tự chuyển hoá" trong phát triển kinh tế tư nhân.</a:t>
            </a:r>
            <a:endParaRPr b="0" lang="en-US" sz="3100" spc="-1" strike="noStrike">
              <a:solidFill>
                <a:srgbClr val="000000"/>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spd="slow">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FD3A-692C-420C-9028-2BB163EA014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1" name="PlaceHolder 1"/>
          <p:cNvSpPr>
            <a:spLocks noGrp="1"/>
          </p:cNvSpPr>
          <p:nvPr>
            <p:ph type="title"/>
          </p:nvPr>
        </p:nvSpPr>
        <p:spPr>
          <a:xfrm>
            <a:off x="228240" y="228240"/>
            <a:ext cx="8915400" cy="12193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2- Tạo lập môi trường đầu tư, kinh doanh thuận lợi cho phát triển kinh tế tư nhân</a:t>
            </a:r>
            <a:br>
              <a:rPr sz="4000"/>
            </a:br>
            <a:endParaRPr b="0" lang="en-US" sz="2800" spc="-1" strike="noStrike">
              <a:solidFill>
                <a:srgbClr val="000000"/>
              </a:solidFill>
              <a:latin typeface="Times New Roman"/>
            </a:endParaRPr>
          </a:p>
        </p:txBody>
      </p:sp>
      <p:sp>
        <p:nvSpPr>
          <p:cNvPr id="112" name="PlaceHolder 2"/>
          <p:cNvSpPr>
            <a:spLocks noGrp="1"/>
          </p:cNvSpPr>
          <p:nvPr>
            <p:ph/>
          </p:nvPr>
        </p:nvSpPr>
        <p:spPr>
          <a:xfrm>
            <a:off x="457200" y="1980720"/>
            <a:ext cx="8153280" cy="4419720"/>
          </a:xfrm>
          <a:prstGeom prst="rect">
            <a:avLst/>
          </a:prstGeom>
          <a:noFill/>
          <a:ln w="0">
            <a:noFill/>
          </a:ln>
        </p:spPr>
        <p:txBody>
          <a:bodyPr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ảo đảm ổn định kinh tế vĩ mô</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Ổn định kinh tế vĩ mô, kiểm soát lạm phá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ẩy mạnh cơ cấu lại hệ thống các tổ chức tín dụng gắn với xử lý nợ xấu; cơ cấu lại ngân sách nhà nước gắn với giảm bội chi ngân sách, bảo đảm an toàn nợ công và nâng cao hiệu quả đầu tư công; khuyến khích đầu tư của khu vực tư nhân. </a:t>
            </a:r>
            <a:endParaRPr b="0" lang="en-US" sz="2800" spc="-1" strike="noStrike">
              <a:solidFill>
                <a:srgbClr val="000000"/>
              </a:solidFill>
              <a:latin typeface="Times New Roman"/>
            </a:endParaRPr>
          </a:p>
        </p:txBody>
      </p:sp>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762120"/>
            <a:ext cx="7772400" cy="5333760"/>
          </a:xfrm>
          <a:prstGeom prst="rect">
            <a:avLst/>
          </a:prstGeom>
          <a:noFill/>
          <a:ln w="0">
            <a:noFill/>
          </a:ln>
        </p:spPr>
        <p:txBody>
          <a:bodyPr anchor="t">
            <a:normAutofit fontScale="99000"/>
          </a:bodyPr>
          <a:p>
            <a:pPr marL="339480" indent="-339480" algn="just">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Hoàn thiện cơ chế, chính sách thu hút đầu tư tư nhân và bảo đảm hoạt động của kinh tế tư nhân theo cơ chế thị trường</a:t>
            </a:r>
            <a:endParaRPr b="0" lang="en-US" sz="3200" spc="-1" strike="noStrike">
              <a:solidFill>
                <a:srgbClr val="000000"/>
              </a:solidFill>
              <a:latin typeface="Times New Roman"/>
            </a:endParaRPr>
          </a:p>
          <a:p>
            <a:pPr marL="339480" indent="-3394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ảo đảm thực hiện quyền tự do kinh doanh, quyền sở hữu tài sản, các quyền, nghĩa vụ dân sự .</a:t>
            </a:r>
            <a:endParaRPr b="0" lang="en-US" sz="3200" spc="-1" strike="noStrike">
              <a:solidFill>
                <a:srgbClr val="000000"/>
              </a:solidFill>
              <a:latin typeface="Times New Roman"/>
            </a:endParaRPr>
          </a:p>
          <a:p>
            <a:pPr marL="339480" indent="-339480" algn="just">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Thu hẹp những lĩnh vực kinh doanh có điều kiện, tạo điều kiện để kinh tế tư nhân đầu tư sản xuất kinh doanh trong những ngành, lĩnh vực, địa bàn mà pháp luật không cấm.</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1C03-3789-4E5D-97D4-F3436E6AB7F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8" name="PlaceHolder 1"/>
          <p:cNvSpPr>
            <a:spLocks noGrp="1"/>
          </p:cNvSpPr>
          <p:nvPr>
            <p:ph/>
          </p:nvPr>
        </p:nvSpPr>
        <p:spPr>
          <a:xfrm>
            <a:off x="685440" y="609480"/>
            <a:ext cx="8077320" cy="5639040"/>
          </a:xfrm>
          <a:prstGeom prst="rect">
            <a:avLst/>
          </a:prstGeom>
          <a:noFill/>
          <a:ln w="0">
            <a:noFill/>
          </a:ln>
        </p:spPr>
        <p:txBody>
          <a:bodyPr anchor="t">
            <a:normAutofit/>
          </a:bodyPr>
          <a:p>
            <a:pPr marL="343080" indent="-34308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ứ 1: </a:t>
            </a:r>
            <a:r>
              <a:rPr b="1" lang="en-US" sz="2400" spc="-1" strike="noStrike">
                <a:solidFill>
                  <a:srgbClr val="000000"/>
                </a:solidFill>
                <a:latin typeface="Times New Roman"/>
              </a:rPr>
              <a:t>Nhận thức về vị trí, vai trò của kinh tế tư nhân có những bước tiến quan trọng, ngày càng tích cực hơn:</a:t>
            </a:r>
            <a:endParaRPr b="0" lang="en-US" sz="2400" spc="-1" strike="noStrike">
              <a:solidFill>
                <a:srgbClr val="000000"/>
              </a:solidFill>
              <a:latin typeface="Times New Roman"/>
            </a:endParaRPr>
          </a:p>
          <a:p>
            <a:pPr marL="343080" indent="-343080" algn="just">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Chuyển biến quan trọng về quan điểm của Đảng về KTTN</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ó vị trí quan trọng, lâu dài.</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à một trong những động lực của nền kinh tế</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óa bỏ mọi rào cản về đầu tư, kinh doanh</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ối xử bình đẳng giữa các thành phần kinh tế.</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ực lượng nòng cốt trong hội nhập kinh tế quốc tế.</a:t>
            </a:r>
            <a:endParaRPr b="0" lang="en-US" sz="2800" spc="-1" strike="noStrike">
              <a:solidFill>
                <a:srgbClr val="000000"/>
              </a:solidFill>
              <a:latin typeface="Times New Roman"/>
            </a:endParaRPr>
          </a:p>
          <a:p>
            <a:pPr marL="343080" indent="-343080" algn="just">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Coi trọng vai trò đội ngũ doanh nhân</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ạo điều kiện cho đội ngũ doanh nhân có đại diện trong các cơ quan thuộc hệ thống chính trị.</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ểu dương, tôn vinh doanh nghiệp của tư nhân.</a:t>
            </a:r>
            <a:endParaRPr b="0" lang="en-US" sz="2800" spc="-1" strike="noStrike">
              <a:solidFill>
                <a:srgbClr val="000000"/>
              </a:solidFill>
              <a:latin typeface="Times New Roman"/>
            </a:endParaRPr>
          </a:p>
        </p:txBody>
      </p:sp>
    </p:spTree>
  </p:cSld>
  <p:transition spd="slow">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440" y="762120"/>
            <a:ext cx="7924680" cy="5333760"/>
          </a:xfrm>
          <a:prstGeom prst="rect">
            <a:avLst/>
          </a:prstGeom>
          <a:noFill/>
          <a:ln w="0">
            <a:noFill/>
          </a:ln>
        </p:spPr>
        <p:txBody>
          <a:bodyPr anchor="t">
            <a:normAutofit/>
          </a:bodyPr>
          <a:p>
            <a:pPr marL="343080" indent="-343080" algn="just">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Tạo điều kiện cho các hộ kinh doanh mở rộng quy mô, tự nguyện liên kết hình thành các hình thức tổ chức hợp tác hoặc chuyển đổi sang mô hình doanh nghiệp.</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àn thiện chính sách hỗ trợ phát triển doanh nghiệp nhỏ và vừa, phong trào khởi nghiệp, đổi mới sáng tạo; tạo tiền đề hình thành các tập đoàn kinh tế tư nhân sở hữu hỗn hợp.</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huyến khích sản xuất nông nghiệp theo hướng dựa vào doanh nghiệp, hợp tác xã và trang trại có quy mô lớn, ứng dụng công nghệ cao. .</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ơ chế, chính sách không biến nó thành bao cấp, phục vụ "lợi ích nhóm". Không biến việc chấp thuận, xác nhận, chứng nhận đáp ứng các điều kiện, tiêu chuẩn chuyên môn kỹ thuật thành giấy phép con, gây cản trở hoạt động của kinh tế tư nhân.</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âng cao năng lực, hiệu lực, hiệu quả của các thiết chế giải quyết tranh chấp kinh tế, dân sự, trọng tâm là các hoạt động thương lượng, hoà giải, trọng tài thương mại và toà án nhân dân các cấp.</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Mở rộng khả năng tham gia thị trường và thúc đẩy cạnh tranh bình đẳng</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át triển mạnh mẽ, thông suốt, đồng bộ các thị trường. Bảo đảm cạnh tranh lành mạnh trên thị trường. Làm tốt công tác quy hoạch mạng lưới phân phối. Có biện pháp hiệu quả ổn định thị trường tiêu thụ sản phẩm, đặc biệt là đối với hàng nông sản. Tăng cường công tác phòng, chống gian lận thương mại, thao túng, chi phối thị trường.</a:t>
            </a:r>
            <a:endParaRPr b="0" lang="en-US" sz="3200" spc="-1" strike="noStrike">
              <a:solidFill>
                <a:srgbClr val="000000"/>
              </a:solidFill>
              <a:latin typeface="Times New Roman"/>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oá bỏ các rào cản, chính sách, các biện pháp hành chính can thiệp trực tiếp vào thị trường . Tăng cường tính minh bạch và kiểm soát độc quyền kinh doanh.</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ạo điều kiện để kinh tế tư nhân tham gia vào quá trình cơ cấu lại doanh nghiệp nhà nước thông qua việc góp vốn, mua cổ phần.</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 </a:t>
            </a:r>
            <a:r>
              <a:rPr b="0" lang="en-US" sz="2800" spc="-1" strike="noStrike">
                <a:solidFill>
                  <a:srgbClr val="ff6600"/>
                </a:solidFill>
                <a:latin typeface="Times New Roman"/>
              </a:rPr>
              <a:t>Đẩy mạnh xã hội hoá, tạo điều kiện cho kinh tế tư nhân tham gia cung cấp dịch vụ công.</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Ưu tiên thu hút đầu tư trực tiếp nước ngoài gắn với sự liên kết sản xuất theo chuỗi giá trị với các doanh nghiệp của tư nhân trong nước.</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h bạch thông tin tài chính doanh nghiệp của tư nhân.</a:t>
            </a:r>
            <a:endParaRPr b="0" lang="en-US" sz="2800" spc="-1" strike="noStrike">
              <a:solidFill>
                <a:srgbClr val="000000"/>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Phát triển kết cấu hạ tầng</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ập trung phát triển hệ thống kết cấu hạ tầng kinh tế - xã hội đồng bộ, hiện đại, tạo điều kiện thuận lợi cho kinh tế tư nhân tiếp cận, sử dụng bình đẳng, với chi phí hợp lý.</a:t>
            </a:r>
            <a:endParaRPr b="0" lang="en-US" sz="3200" spc="-1" strike="noStrike">
              <a:solidFill>
                <a:srgbClr val="000000"/>
              </a:solidFill>
              <a:latin typeface="Times New Roman"/>
            </a:endParaRPr>
          </a:p>
          <a:p>
            <a:pPr marL="343080" indent="-343080" algn="just">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imes New Roman"/>
              </a:rPr>
              <a:t>Đẩy mạnh thực hiện cơ chế hợp tác công - tư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àn thiện quy hoạch và đẩy mạnh đầu tư phát triển đồng bộ các khu công nghiệp, cụm công nghiệp, khu chế xuất, khu công nghệ cao</a:t>
            </a:r>
            <a:endParaRPr b="0" lang="en-US" sz="3200" spc="-1" strike="noStrike">
              <a:solidFill>
                <a:srgbClr val="000000"/>
              </a:solidFill>
              <a:latin typeface="Times New Roman"/>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Tăng cường khả năng tiếp cận các nguồn lự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ạo điều kiện kinh tế tư nhân tiếp cận thị trường đất đai, tài nguyên một cách minh bạch, bình đẳng theo cơ chế thị trường. Bảo đảm quyền sử dụng đất thực sự là tài sản được chuyển nhượng, giao dịch, thế chấp cho các nghĩa vụ dân sự, kinh tế.</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ạo điều kiện bình đẳng, thuận lợi cho kinh tế tư nhân tiếp cận vay vốn, huy động vốn trên thị trường chứng khoán, phát hành trái phiếu doanh nghiệp.</a:t>
            </a:r>
            <a:endParaRPr b="0" lang="en-US" sz="2800" spc="-1" strike="noStrike">
              <a:solidFill>
                <a:srgbClr val="000000"/>
              </a:solidFill>
              <a:latin typeface="Times New Roman"/>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đa dạng các định chế tài chính, các quỹ đầu tư mạo hiểm, các quỹ bảo lãnh tín dụng, các tổ chức tài chính vi mô, các tổ chức tư vấn tài chính, dịch vụ kế toán, kiểm toán, thẩm định giá, xếp hạng tín nhiệ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hệ thống các tổ chức tín dụng an toàn, lành mạnh;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đa dạng và chất lượng các sản phẩm, dịch vụ bảo hiểm để góp phần giảm thiểu rủi ro, tổn thấ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ỗ trợ kinh tế tư nhân tiếp cận, khai thác các cơ hội trong hội nhập quốc tế, mở rộng thị trường.</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30FB-D568-4397-A49F-0CE87068D8A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2" name="PlaceHolder 1"/>
          <p:cNvSpPr>
            <a:spLocks noGrp="1"/>
          </p:cNvSpPr>
          <p:nvPr>
            <p:ph type="title"/>
          </p:nvPr>
        </p:nvSpPr>
        <p:spPr>
          <a:xfrm>
            <a:off x="228240" y="228240"/>
            <a:ext cx="8915400" cy="16765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rPr>
              <a:t>3- Hỗ trợ kinh tế tư nhân đổi mới sáng tạo, hiện đại hoá công nghệ và phát triển nguồn nhân lực, nâng cao năng suất lao động</a:t>
            </a:r>
            <a:br>
              <a:rPr sz="2800"/>
            </a:br>
            <a:endParaRPr b="0" lang="en-US" sz="2800" spc="-1" strike="noStrike">
              <a:solidFill>
                <a:srgbClr val="000000"/>
              </a:solidFill>
              <a:latin typeface="Times New Roman"/>
            </a:endParaRPr>
          </a:p>
        </p:txBody>
      </p:sp>
      <p:sp>
        <p:nvSpPr>
          <p:cNvPr id="123" name="PlaceHolder 2"/>
          <p:cNvSpPr>
            <a:spLocks noGrp="1"/>
          </p:cNvSpPr>
          <p:nvPr>
            <p:ph/>
          </p:nvPr>
        </p:nvSpPr>
        <p:spPr>
          <a:xfrm>
            <a:off x="457200" y="2209320"/>
            <a:ext cx="8153280" cy="3886200"/>
          </a:xfrm>
          <a:prstGeom prst="rect">
            <a:avLst/>
          </a:prstGeom>
          <a:noFill/>
          <a:ln w="0">
            <a:noFill/>
          </a:ln>
        </p:spPr>
        <p:txBody>
          <a:bodyPr anchor="t">
            <a:normAutofit fontScale="99000"/>
          </a:bodyPr>
          <a:p>
            <a:pPr marL="339480" indent="-3394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àn thiện và bảo đảm thực thi hiệu quả pháp luật về sở hữu trí tuệ. </a:t>
            </a:r>
            <a:endParaRPr b="0" lang="en-US" sz="2600" spc="-1" strike="noStrike">
              <a:solidFill>
                <a:srgbClr val="000000"/>
              </a:solidFill>
              <a:latin typeface="Times New Roman"/>
            </a:endParaRPr>
          </a:p>
          <a:p>
            <a:pPr marL="339480" indent="-339480" algn="just">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Đẩy mạnh thương mại hoá các sản phẩm nghiên cứu khoa học, công nghệ.</a:t>
            </a:r>
            <a:endParaRPr b="0" lang="en-US" sz="2600" spc="-1" strike="noStrike">
              <a:solidFill>
                <a:srgbClr val="000000"/>
              </a:solidFill>
              <a:latin typeface="Times New Roman"/>
            </a:endParaRPr>
          </a:p>
          <a:p>
            <a:pPr marL="339480" indent="-3394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hợp tác, liên kết chặt chẽ giữa doanh nghiệp và cơ sở đào tạo; quy hoạch và phát triển đào tạo theo nhu cầu sử dụng của doanh nghiệp và thị trường.</a:t>
            </a:r>
            <a:endParaRPr b="0" lang="en-US" sz="2600" spc="-1" strike="noStrike">
              <a:solidFill>
                <a:srgbClr val="000000"/>
              </a:solidFill>
              <a:latin typeface="Times New Roman"/>
            </a:endParaRPr>
          </a:p>
          <a:p>
            <a:pPr marL="339480" indent="-3394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Xây dựng và triển khai rộng rãi các chuẩn mực đạo đức, văn hoá của doanh nhân Việt Nam .</a:t>
            </a:r>
            <a:endParaRPr b="0" lang="en-US" sz="2600" spc="-1" strike="noStrike">
              <a:solidFill>
                <a:srgbClr val="000000"/>
              </a:solidFill>
              <a:latin typeface="Times New Roman"/>
            </a:endParaRPr>
          </a:p>
          <a:p>
            <a:pPr marL="3394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1F66-5E97-4659-A03D-D4E226C7DBAD}"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5" name="PlaceHolder 1"/>
          <p:cNvSpPr>
            <a:spLocks noGrp="1"/>
          </p:cNvSpPr>
          <p:nvPr>
            <p:ph type="title"/>
          </p:nvPr>
        </p:nvSpPr>
        <p:spPr>
          <a:xfrm>
            <a:off x="228240" y="228600"/>
            <a:ext cx="8915400" cy="8380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Nâng cao hiệu lực, hiệu quả quản lý nhà nước</a:t>
            </a:r>
            <a:endParaRPr b="0" lang="en-US" sz="2800" spc="-1" strike="noStrike">
              <a:solidFill>
                <a:srgbClr val="000000"/>
              </a:solidFill>
              <a:latin typeface="Times New Roman"/>
            </a:endParaRPr>
          </a:p>
        </p:txBody>
      </p:sp>
      <p:sp>
        <p:nvSpPr>
          <p:cNvPr id="126" name="PlaceHolder 2"/>
          <p:cNvSpPr>
            <a:spLocks noGrp="1"/>
          </p:cNvSpPr>
          <p:nvPr>
            <p:ph/>
          </p:nvPr>
        </p:nvSpPr>
        <p:spPr>
          <a:xfrm>
            <a:off x="457200" y="1447560"/>
            <a:ext cx="8153280" cy="46479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ây dựng bộ máy nhà nước tinh gọn, hiệu lực, hiệu quả.</a:t>
            </a:r>
            <a:endParaRPr b="0" lang="en-US" sz="2800" spc="-1" strike="noStrike">
              <a:solidFill>
                <a:srgbClr val="000000"/>
              </a:solidFill>
              <a:latin typeface="Times New Roman"/>
            </a:endParaRPr>
          </a:p>
          <a:p>
            <a:pPr marL="343080" indent="-343080" algn="just">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ạo môi trường đầu tư kinh doanh thuận lợi, an toàn cho kinh tế tư nhân phát triển lành mạnh, đúng định hướng</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cường hiệu lực, hiệu quả công tác giám sát, thanh tra, kiểm tra; nâng cao hiệu quả hoạt động giải quyết các tranh chấp kinh tế, thương mại, dân sự.</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ẩy mạnh cải cách hành chính mà trọng tâm là tạo bước đột phá trong cải cách thủ tục hành chính.</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cường ứng dụng công nghệ thông tin, hiện đại hoá dịch vụ hành chính công.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âng cao năng lực, hiệu quả phối hợp quản lý nhà nước đối với kinh tế tư nhâ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hẩn trương xây dựng và phát triển hệ thống cơ sở dữ liệu tập trung, thống nhất, tích hợp về khu vực kinh tế tư nhâ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Tạo môi trường thuận lợi về thể chế và đồng thuận xã hội cho sự phát triển KTT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òan thiện hệ thống pháp luật. Từ sau NQ 14 năm 2002, nhà nước </a:t>
            </a:r>
            <a:r>
              <a:rPr b="0" lang="en-US" sz="2800" spc="-1" strike="noStrike">
                <a:solidFill>
                  <a:srgbClr val="ff0000"/>
                </a:solidFill>
                <a:latin typeface="Times New Roman"/>
              </a:rPr>
              <a:t>ban hành hơn 100 văn bản QPPL </a:t>
            </a:r>
            <a:r>
              <a:rPr b="0" lang="en-US" sz="2800" spc="-1" strike="noStrike">
                <a:solidFill>
                  <a:srgbClr val="000000"/>
                </a:solidFill>
                <a:latin typeface="Times New Roman"/>
              </a:rPr>
              <a:t>nhằm cải thiện môi trường đầu tư kinh doanh. </a:t>
            </a:r>
            <a:r>
              <a:rPr b="0" i="1" lang="en-US" sz="2800" spc="-1" strike="noStrike">
                <a:solidFill>
                  <a:srgbClr val="ff6600"/>
                </a:solidFill>
                <a:latin typeface="Times New Roman"/>
              </a:rPr>
              <a:t>(*1)</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 ban hành </a:t>
            </a:r>
            <a:r>
              <a:rPr b="0" lang="en-US" sz="2800" spc="-1" strike="noStrike">
                <a:solidFill>
                  <a:srgbClr val="ff0000"/>
                </a:solidFill>
                <a:latin typeface="Times New Roman"/>
              </a:rPr>
              <a:t>NQ 35/NQ-CP ngày 16/5/2016 </a:t>
            </a:r>
            <a:r>
              <a:rPr b="0" lang="en-US" sz="2800" spc="-1" strike="noStrike">
                <a:solidFill>
                  <a:srgbClr val="000000"/>
                </a:solidFill>
                <a:latin typeface="Times New Roman"/>
              </a:rPr>
              <a:t>về hỗ trợ phát triển doanh nghiệp đến năm 2020; </a:t>
            </a:r>
            <a:r>
              <a:rPr b="0" lang="en-US" sz="2800" spc="-1" strike="noStrike">
                <a:solidFill>
                  <a:srgbClr val="ff0000"/>
                </a:solidFill>
                <a:latin typeface="Times New Roman"/>
              </a:rPr>
              <a:t>NQ 19-2017/NQ-CP ngày 06/02/2017</a:t>
            </a:r>
            <a:r>
              <a:rPr b="0" lang="en-US" sz="2800" spc="-1" strike="noStrike">
                <a:solidFill>
                  <a:srgbClr val="000000"/>
                </a:solidFill>
                <a:latin typeface="Times New Roman"/>
              </a:rPr>
              <a:t> về tiếp tục cải thiện môi trường kinh doanh, nâng cao năng lực cạnh tranh quốc gia. </a:t>
            </a:r>
            <a:r>
              <a:rPr b="0" i="1" lang="en-US" sz="2800" spc="-1" strike="noStrike">
                <a:solidFill>
                  <a:srgbClr val="ff6600"/>
                </a:solidFill>
                <a:latin typeface="Times New Roman"/>
              </a:rPr>
              <a:t>(*2)</a:t>
            </a:r>
            <a:endParaRPr b="0" lang="en-US" sz="2800" spc="-1" strike="noStrike">
              <a:solidFill>
                <a:srgbClr val="000000"/>
              </a:solidFill>
              <a:latin typeface="Times New Roman"/>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AE659-4234-4B38-A4A4-54A6EFEABB7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9" name="PlaceHolder 1"/>
          <p:cNvSpPr>
            <a:spLocks noGrp="1"/>
          </p:cNvSpPr>
          <p:nvPr>
            <p:ph type="title"/>
          </p:nvPr>
        </p:nvSpPr>
        <p:spPr>
          <a:xfrm>
            <a:off x="228240" y="228600"/>
            <a:ext cx="8915400" cy="1905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Đổi mới nội dung, phương thức và tăng cường sự lãnh đạo của Đảng, nâng cao vai trò của Mặt trận Tổ quốc Việt Nam, các tổ chức chính trị - xã hội, xã hội - nghề nghiệp đối với kinh tế tư nhân</a:t>
            </a:r>
            <a:endParaRPr b="0" lang="en-US" sz="2800" spc="-1" strike="noStrike">
              <a:solidFill>
                <a:srgbClr val="000000"/>
              </a:solidFill>
              <a:latin typeface="Times New Roman"/>
            </a:endParaRPr>
          </a:p>
        </p:txBody>
      </p:sp>
      <p:sp>
        <p:nvSpPr>
          <p:cNvPr id="130" name="PlaceHolder 2"/>
          <p:cNvSpPr>
            <a:spLocks noGrp="1"/>
          </p:cNvSpPr>
          <p:nvPr>
            <p:ph/>
          </p:nvPr>
        </p:nvSpPr>
        <p:spPr>
          <a:xfrm>
            <a:off x="457200" y="2438280"/>
            <a:ext cx="8153280" cy="36576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ổi mới nội dung, phương thức lãnh đạo của Đảng và hiệu quả hoạt động của các tổ chức đảng trong khu vực kinh tế tư nhân. </a:t>
            </a:r>
            <a:endParaRPr b="0" lang="en-US" sz="2400" spc="-1" strike="noStrike">
              <a:solidFill>
                <a:srgbClr val="000000"/>
              </a:solidFill>
              <a:latin typeface="Times New Roman"/>
            </a:endParaRPr>
          </a:p>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Có giải pháp thực hiện chủ trương phát triển đảng trong khu vực kinh tế tư nhân.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o đảm giữ nghiêm kỷ luật, kỷ cương, giữ vững sự lãnh đạo của Đảng đối với khu vực kinh tế tư nhân.</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át huy vai trò của Mặt trận Tổ quốc Việt Nam, các tổ chức chính trị - xã hội, xã hội - nghề nghiệp trong phát triển kinh tế tư nhâ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B054-9D70-486E-9F3C-8DAE0BCB17C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2"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V</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Ổ CHỨC THỰC HIỆN</a:t>
            </a:r>
            <a:endParaRPr b="0" lang="en-US" sz="3200" spc="-1" strike="noStrike">
              <a:solidFill>
                <a:srgbClr val="000000"/>
              </a:solidFill>
              <a:latin typeface="Times New Roman"/>
            </a:endParaRPr>
          </a:p>
        </p:txBody>
      </p:sp>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ảng đoàn Quốc hội </a:t>
            </a:r>
            <a:r>
              <a:rPr b="0" lang="en-US" sz="2800" spc="-1" strike="noStrike">
                <a:solidFill>
                  <a:srgbClr val="000000"/>
                </a:solidFill>
                <a:latin typeface="Times New Roman"/>
              </a:rPr>
              <a:t>lãnh đạo bổ sung Chương trình xây dựng luật, pháp lệnh, ưu tiên các dự án luật trực tiếp hỗ trợ đổi mới cơ chế, chính sách khuyến khích và tạo điều kiện phát triển kinh tế tư nhân; tăng cường giám sát của Quốc hội, Uỷ ban Thường vụ Quốc hội, Hội đồng Dân tộc, các Uỷ ban của Quốc hội về phát triển kinh tế tư nhân.</a:t>
            </a:r>
            <a:endParaRPr b="0" lang="en-US" sz="2800" spc="-1" strike="noStrike">
              <a:solidFill>
                <a:srgbClr val="000000"/>
              </a:solidFill>
              <a:latin typeface="Times New Roman"/>
            </a:endParaRPr>
          </a:p>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cán sự đảng Chính phủ</a:t>
            </a:r>
            <a:r>
              <a:rPr b="0" lang="en-US" sz="2800" spc="-1" strike="noStrike">
                <a:solidFill>
                  <a:srgbClr val="000000"/>
                </a:solidFill>
                <a:latin typeface="Times New Roman"/>
              </a:rPr>
              <a:t>, ban cán sự đảng các bộ, cơ quan ngang bộ, cơ quan trực thuộc Chính phủ, Toà án nhân dân tối cao, Viện Kiểm sát nhân dân tối cao, các tỉnh uỷ, thành uỷ, đảng đoàn, đảng uỷ trực thuộc Trung ương xây dựng kế hoạch hành động với các nhiệm vụ, giải pháp, lộ trình phù hợp và phân công cụ thể trách nhiệm cho các cơ quan, đơn vị thực hiện.</a:t>
            </a:r>
            <a:endParaRPr b="0" lang="en-US" sz="2800" spc="-1" strike="noStrike">
              <a:solidFill>
                <a:srgbClr val="000000"/>
              </a:solidFill>
              <a:latin typeface="Times New Roman"/>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Tổ chức Trung ương chủ trì</a:t>
            </a:r>
            <a:r>
              <a:rPr b="0" lang="en-US" sz="2800" spc="-1" strike="noStrike">
                <a:solidFill>
                  <a:srgbClr val="000000"/>
                </a:solidFill>
                <a:latin typeface="Times New Roman"/>
              </a:rPr>
              <a:t>, phối hợp với các ban đảng Trung ương tổng kết, kiến nghị tiếp tục đổi mới nội dung và phương thức lãnh đạo của Đảng về phát triển kinh tế tư nhân; chủ trương, chính sách về phát triển tổ chức đảng và đảng viên trong khu vực kinh tế tư nhân.</a:t>
            </a:r>
            <a:endParaRPr b="0" lang="en-US" sz="2800" spc="-1" strike="noStrike">
              <a:solidFill>
                <a:srgbClr val="000000"/>
              </a:solidFill>
              <a:latin typeface="Times New Roman"/>
            </a:endParaRPr>
          </a:p>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Mặt trận Tổ quốc Việt Nam </a:t>
            </a:r>
            <a:r>
              <a:rPr b="0" lang="en-US" sz="2800" spc="-1" strike="noStrike">
                <a:solidFill>
                  <a:srgbClr val="000000"/>
                </a:solidFill>
                <a:latin typeface="Times New Roman"/>
              </a:rPr>
              <a:t>và các tổ chức chính trị - xã hội xây dựng chương trình, kế hoạch giám sát việc thực hiện Nghị quyết.</a:t>
            </a:r>
            <a:endParaRPr b="0" lang="en-US" sz="2800" spc="-1" strike="noStrike">
              <a:solidFill>
                <a:srgbClr val="000000"/>
              </a:solidFill>
              <a:latin typeface="Times New Roman"/>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Tuyên giáo Trung ương chủ trì</a:t>
            </a:r>
            <a:r>
              <a:rPr b="0" lang="en-US" sz="2800" spc="-1" strike="noStrike">
                <a:solidFill>
                  <a:srgbClr val="000000"/>
                </a:solidFill>
                <a:latin typeface="Times New Roman"/>
              </a:rPr>
              <a:t>, phối hợp với Ban Kinh tế Trung ương tổ chức học tập, quán triệt, tuyên truyền, phổ biến rộng rãi về nội dung và kết quả thực hiện Nghị quyết.</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Kinh tế TW chủ trì</a:t>
            </a:r>
            <a:r>
              <a:rPr b="0" lang="en-US" sz="2800" spc="-1" strike="noStrike">
                <a:solidFill>
                  <a:srgbClr val="000000"/>
                </a:solidFill>
                <a:latin typeface="Times New Roman"/>
              </a:rPr>
              <a:t>, phối hợp với Văn phòng Trung ương Đảng, các ban cán sự đảng, đảng đoàn, đảng uỷ, đảng đoàn trực thuộc Trung ương thường xuyên theo dõi, giám sát, kiểm tra, đôn đốc triển khai thực hiện Nghị quyết; sơ kết, tổng kết, định kỳ báo cáo Bộ Chính trị, Ban Bí thư.</a:t>
            </a:r>
            <a:endParaRPr b="0" lang="en-US" sz="2800" spc="-1" strike="noStrike">
              <a:solidFill>
                <a:srgbClr val="000000"/>
              </a:solidFill>
              <a:latin typeface="Times New Roman"/>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177E-07F9-46C5-BFF6-CF1E1834933B}"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8" name="PlaceHolder 1"/>
          <p:cNvSpPr>
            <a:spLocks noGrp="1"/>
          </p:cNvSpPr>
          <p:nvPr>
            <p:ph type="title"/>
          </p:nvPr>
        </p:nvSpPr>
        <p:spPr>
          <a:xfrm>
            <a:off x="685800" y="1904760"/>
            <a:ext cx="7772400" cy="2361960"/>
          </a:xfrm>
          <a:prstGeom prst="rect">
            <a:avLst/>
          </a:prstGeom>
          <a:solidFill>
            <a:srgbClr val="00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ẢM ƠN ĐÃ LẮNG NGHE</a:t>
            </a:r>
            <a:endParaRPr b="0" lang="en-US" sz="3600" spc="-1" strike="noStrike">
              <a:solidFill>
                <a:srgbClr val="000000"/>
              </a:solidFill>
              <a:latin typeface="Times New Roman"/>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685800" y="1066680"/>
            <a:ext cx="7848720" cy="50292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áo cáo WB về môi trường kinh doanh 2017, VN </a:t>
            </a:r>
            <a:r>
              <a:rPr b="0" lang="en-US" sz="2800" spc="-1" strike="noStrike">
                <a:solidFill>
                  <a:srgbClr val="0000cc"/>
                </a:solidFill>
                <a:latin typeface="Times New Roman"/>
              </a:rPr>
              <a:t>xếp hạng 82/190 nền kinh tế</a:t>
            </a:r>
            <a:r>
              <a:rPr b="0" lang="en-US" sz="2800" spc="-1" strike="noStrike">
                <a:solidFill>
                  <a:srgbClr val="000000"/>
                </a:solidFill>
                <a:latin typeface="Times New Roman"/>
              </a:rPr>
              <a:t>, tăng 9 bậc so năm 2016.</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ễn đàn kinh tế thế giới (WEF) xếp hạng môi trường thương mại VN là </a:t>
            </a:r>
            <a:r>
              <a:rPr b="0" lang="en-US" sz="2800" spc="-1" strike="noStrike">
                <a:solidFill>
                  <a:srgbClr val="0000cc"/>
                </a:solidFill>
                <a:latin typeface="Times New Roman"/>
              </a:rPr>
              <a:t>73/136 nền kinh tế, </a:t>
            </a:r>
            <a:r>
              <a:rPr b="0" lang="en-US" sz="2800" spc="-1" strike="noStrike">
                <a:solidFill>
                  <a:srgbClr val="000000"/>
                </a:solidFill>
                <a:latin typeface="Times New Roman"/>
              </a:rPr>
              <a:t>tăng 14 bậ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N tích cực tham gia các định chế quốc tế như WTO, ASEM, ASEAN…, tại điều kiện cho KTTN phát triển.</a:t>
            </a:r>
            <a:endParaRPr b="0" lang="en-US" sz="2800" spc="-1" strike="noStrike">
              <a:solidFill>
                <a:srgbClr val="000000"/>
              </a:solidFill>
              <a:latin typeface="Times New Roman"/>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rPr>
              <a:t>Quản lý nhà nước đối với KTTN điều chỉnh phù hợp hơn với cơ chế thị trườ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ông khai qui họach, thủ tụ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ẩy mạnh cải cách hành chín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cường đối thọai, hỗ trợ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ẩy mạnh phân công, phân cấp quản lý.</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ổi mới cơ chế thanh, kiểm tra từ tiền kiểm sang hậu kiểm, tránh chồng chéo. </a:t>
            </a:r>
            <a:r>
              <a:rPr b="0" i="1" lang="en-US" sz="2800" spc="-1" strike="noStrike">
                <a:solidFill>
                  <a:srgbClr val="ff6600"/>
                </a:solidFill>
                <a:latin typeface="Times New Roman"/>
              </a:rPr>
              <a:t>(*3)</a:t>
            </a:r>
            <a:endParaRPr b="0" lang="en-US" sz="2800" spc="-1" strike="noStrike">
              <a:solidFill>
                <a:srgbClr val="000000"/>
              </a:solidFill>
              <a:latin typeface="Times New Roman"/>
            </a:endParaRPr>
          </a:p>
        </p:txBody>
      </p:sp>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2: </a:t>
            </a:r>
            <a:r>
              <a:rPr b="1" lang="en-US" sz="2800" spc="-1" strike="noStrike">
                <a:solidFill>
                  <a:srgbClr val="000000"/>
                </a:solidFill>
                <a:latin typeface="Times New Roman"/>
              </a:rPr>
              <a:t>Kinh tế tư nhân đã phát triển trên nhiều phương diện, bước đầu đã hình thành một số tập đoàn kinh tế tư nhân có quy mô lớn, hoạt động đa ngành, có khả năng cạnh tranh trên thị trường trong nước và quốc tế.</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Đóng góp </a:t>
            </a:r>
            <a:r>
              <a:rPr b="0" lang="en-US" sz="2800" spc="-1" strike="noStrike">
                <a:solidFill>
                  <a:srgbClr val="0000cc"/>
                </a:solidFill>
                <a:latin typeface="Times New Roman"/>
              </a:rPr>
              <a:t>39-40% GDP</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ạo việc làm </a:t>
            </a:r>
            <a:r>
              <a:rPr b="0" lang="en-US" sz="2800" spc="-1" strike="noStrike">
                <a:solidFill>
                  <a:srgbClr val="0000cc"/>
                </a:solidFill>
                <a:latin typeface="Times New Roman"/>
              </a:rPr>
              <a:t>85% lao động của nền kinh tế.</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ếm từ </a:t>
            </a:r>
            <a:r>
              <a:rPr b="0" lang="en-US" sz="2800" spc="-1" strike="noStrike">
                <a:solidFill>
                  <a:srgbClr val="0000cc"/>
                </a:solidFill>
                <a:latin typeface="Times New Roman"/>
              </a:rPr>
              <a:t>35-40% tổng vốn đầu tư tòan xã hội.</a:t>
            </a:r>
            <a:endParaRPr b="0" lang="en-US" sz="2800" spc="-1" strike="noStrike">
              <a:solidFill>
                <a:srgbClr val="000000"/>
              </a:solidFill>
              <a:latin typeface="Times New Roman"/>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3: </a:t>
            </a:r>
            <a:r>
              <a:rPr b="1" lang="en-US" sz="2800" spc="-1" strike="noStrike">
                <a:solidFill>
                  <a:srgbClr val="000000"/>
                </a:solidFill>
                <a:latin typeface="Times New Roman"/>
              </a:rPr>
              <a:t>Đội ngũ doanh nhân ngày càng lớn mạnh, có khát vọng làm giàu chính đáng, có trách nhiệm xã hội, văn hoá kinh doanh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ố lượng doanh nghiệp tăng nhanh, đến năm 2016 đã có trên </a:t>
            </a:r>
            <a:r>
              <a:rPr b="0" lang="en-US" sz="2800" spc="-1" strike="noStrike">
                <a:solidFill>
                  <a:srgbClr val="ff0000"/>
                </a:solidFill>
                <a:latin typeface="Times New Roman"/>
              </a:rPr>
              <a:t>600.000 doanh nghiệp</a:t>
            </a:r>
            <a:r>
              <a:rPr b="0" lang="en-US" sz="2800" spc="-1" strike="noStrike">
                <a:solidFill>
                  <a:srgbClr val="000000"/>
                </a:solidFill>
                <a:latin typeface="Times New Roman"/>
              </a:rPr>
              <a:t>, trong đó riêng năm 2016 có hơn 110.000 doanh nghiệp thành lập mới; Ngòai ra đến năm 2016 cả nước có trên 9,3 triệu hộ sản xuất nông nghiệp, trong đó có hơn 35.000 trang trạ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ành nghề phổ biến là thương mại, dịch vụ, tư vấn, sản xuất gia công…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09:29:17Z</dcterms:created>
  <dc:creator>MAITRAM</dc:creator>
  <dc:description/>
  <dc:language>en-US</dc:language>
  <cp:lastModifiedBy>NOTEBOOK</cp:lastModifiedBy>
  <dcterms:modified xsi:type="dcterms:W3CDTF">2017-08-24T03:27:03Z</dcterms:modified>
  <cp:revision>266</cp:revision>
  <dc:subject/>
  <dc:title>PowerPoint Presentation</dc:title>
</cp:coreProperties>
</file>